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gif" ContentType="image/gif"/>
  <Override PartName="/ppt/media/star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AAEE-417E-4A74-B429-9A714F089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9167-C085-4BAA-B2CA-50C4DAF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10D528-FC41-468E-A543-1EEB9E2A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E8B604-5260-4BB2-87A2-D89C5081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C73A2E-A538-4F93-80AC-6A6802ED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914AB2-9C02-4355-97B2-602C5B6D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2F22F9-D018-49B1-8B7A-89693191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597924-BBD1-4821-AB31-C73935D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90EBC6-926F-4B4D-A3D1-030A1E9E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3FA189-DD79-41FF-B79E-5E43D0C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1E16D-16BF-43BC-875F-421F95F94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75A2-32E5-414C-9A1E-F55AF7122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6F4C-A5FE-4996-8726-3C9EFD6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414F-C639-4C36-A4B8-CCF39C9B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69D4-1CE8-4DBB-818C-2AE33D28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A3FB9-A627-4538-8725-347A2CC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F9338-19F7-44BB-AE5A-77B8D4E8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2BD9-9B13-496A-A8ED-DA9D5E0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FC9A-2CD1-4F04-A1AA-77DB7085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9FD2-6A7D-4507-BE8D-9A66822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C49B1-08A9-486F-9ACE-7579925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6449-13AA-475D-9271-88912F3E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E1752-8847-4199-B9B2-08A67AD4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17F6-6F83-4BF1-97D4-C11705F615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EA4BF-8886-42D6-9EF3-11866A3F41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DC007-159E-41B9-B6A0-7D5C39277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D368F9-7178-47DF-AFFA-BE9D0B4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862A1F-DB8B-4EBA-8384-4925F421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C74B0-EC42-4F1B-ACB8-B0AA5621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05D20D-05EF-4FA8-8FDE-36350439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2C5D1-61CE-41D4-BBF4-CA0878BC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B0817-5F40-4DD7-B4A1-B83BFBD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426AEA-FCC7-46FC-8714-B2DA8BA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BD947-171E-4D04-8498-ADC65552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83D29-A93B-4D37-8766-077AD8970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4B194-A744-44C0-8B82-9DA3899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32089-D79C-47C4-8578-C47E35C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E57EBF-7E9D-466D-9F9D-5B7D6E4A7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3EBAF-AF1F-4A05-ADF7-B41E574D2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F659C-447C-43C7-9E7C-C73118DC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AE729-6DC8-42EB-8AED-9283267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9A0A3-B3B3-42AD-9E22-2BB2D73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00E62-0776-4F93-919A-88E79FB1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4F46F-B794-4513-A03A-ECE1DA8D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63CF6-B707-47FE-B881-BC07BFC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9FC98-761B-48E5-BF61-5CB15EC3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705A7-B6E8-4524-8DFF-65F559DA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D6289-13C5-4066-8746-718382B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FC23E-F179-462D-87BE-3C56927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D1171-328C-428E-ADE6-1F7352F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3DABA-5F6C-4B4D-8DE3-8F8898C6A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024FE-AA87-4503-976D-2BC2993B7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2EA58-5F15-4803-8BAD-8373CE5E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0AD04-3184-426C-887B-A921A1BC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154F2-949C-4101-A1BD-96D94911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C02A-90FD-47D4-91F5-307D06DA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FE44F-1101-4D4E-8FFE-661685C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8869F-6CC0-400D-A489-6E5CA2C1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D8F3F-0C11-4E0D-9E40-9FFE7E2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7A0C-C1FB-4AA6-8DB9-2B22D89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FD0AB-B49A-4522-87DA-682D5FB4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855BB-DA64-4182-B2F0-51B534C7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E4D3-33E8-4CDC-A24C-55C8A77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D5E4-917E-487E-AC06-11D0BF642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83B191-E1EF-4F08-917C-9F5D687820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020E2E-B835-410B-8029-DD3B8743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D3DD67-EF4A-4532-8335-1D47CCCC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94BA3-A115-4BF3-8706-12D55AC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96062E-67ED-4F1D-8BCA-0F856F5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11CF3C-391B-4639-BBD2-57CB7471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088796-529B-41FD-80B9-1E3AF32A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4AC8F8-9929-4039-9D97-6917DFC8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01ADF-ADCC-4378-B670-5504B658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EB8CA3-220B-4B9C-A0CE-DF429CD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629137-81D2-4FD9-BF0B-EF84DB30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175F1A-D2AF-4C90-80FF-1EB0C8E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B11010-4506-4470-A42E-061B6657A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9C9B61-B958-4FAD-9CF2-24D7670D42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754FA-000A-43FC-8C41-416CA577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4956CD-DF3F-4609-927E-45764CE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1D7FA8-B90F-479E-B933-A16D9A3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5A5F9F-6DDF-4A8B-8B5B-6DEB228C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9AC72-3B7D-4FE7-962A-7371165D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6BA94A-9687-4D87-AF3A-D1B48F3D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F5ACB6-EE03-4E79-9CB0-7167282D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52ACAD-D7D3-4C0D-8505-E5587338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2E9D8F-D72C-4DDA-B833-6EED65EB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ECEB86-8A7C-4800-9618-73C15993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8BE599-5806-4D34-A6A1-34F9979E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069F0-EA0E-4F24-97B6-FB7E420B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CF4B42-FE07-4D46-B8BE-BE7DA8024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226E-AB8C-4E1E-89AF-E8B9B580B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8354D-F5CD-4847-AF6C-66E198DF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E907B-0D07-48B5-AA4F-8F6C2D0B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9BCFA-FB2D-436A-8977-9C9C7417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33335-2DA1-4A40-A951-315A40F8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327E1-EB45-4192-A749-1A603D20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7411B-C1BC-4975-9C62-E97BD92E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CF07C-B199-4459-B9AE-9485AA8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909F2-4C58-4C8A-B909-881BF497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2034D-93D3-4A30-9A40-572434C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FBF38-E7B0-4C04-844C-D8B5A2F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6C3F9-630D-4940-8FA8-1D2BB1B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7113F-5D45-4428-A7F0-735ECFF820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398A3D-21E6-4800-A69F-07F16A8271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C1BA55-67DE-48AE-BA24-547E3063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2A03B4-ACD1-4AD8-8FA5-B4249B3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F1177C-A50A-4364-AC65-1463A51A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CF3B11-D5F0-4D96-80F6-124E07AC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F9F640-769A-4DAB-AE55-FD5C2816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0A545D-34BC-4B91-ACF6-FFBE8201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E3CE-7CBE-423C-BFF2-29D18676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8C843-05D8-4289-9625-5CA5FE7E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1090D1-24D1-4889-A415-D11CFC4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A77DFC-EB0D-4A47-88CC-115002F1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E0A37F-2FD6-4691-B341-C6FB748F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B969BF-1C5A-413B-ABE0-0B46158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DD152B-0D75-4E0E-8B68-8BFD2DAA1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5057E0-EC2B-4592-AD48-EEEE529B0B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4AA8EC-6189-46B8-87C4-B708D8A7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4EB2B8-10C2-4066-A0DA-48253960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0D812F-8265-419C-B1DA-657FA401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C29EFE-ECF4-4E9B-B075-B0E41358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7EC99-480F-45B7-9FDE-B7313B3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DFE40A-3D56-4116-9C86-4EF8F94C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A9D0F9-1929-4AB5-A723-2EB37812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221F10-4CEE-4CBF-A323-C3AB4F68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9E478A-0979-4BD4-A186-F619707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88ECC3-C5ED-4A09-9D3C-5C45B7A6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E4E38D-B3C7-49F7-ADD9-81D2CE9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392750-7B4F-456F-B773-E928F45C8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967FB-082E-4C70-BB45-706E7FC3B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0E1F9-55EB-4C25-8464-D0153B92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489B6-0DA1-4A7F-871C-F98F0ACA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3B37D-B640-4BFF-997F-FA6B1E2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34B5F-497F-48A3-8579-33685F03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C44AF-8E9C-4C99-A20F-7C10BEE1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DB15F-9A01-4D8C-B3E6-DA13DB69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F135C-9643-423E-9055-383C7787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E4B96-AAE6-4388-B548-ABE5B18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1B587-F5F7-42AA-ADAB-FBEC0B2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CC9B6-2D3A-4883-A9DA-1D1F6F59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2DF23-07E4-4709-B17F-E17315F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C62A3-8397-4F5D-B915-46F4F7E6F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D63F15-F3B4-4339-B65B-1D6F7AA41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1CD56-E958-44A1-BEDE-6A0CB51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50D9CF-DCE8-4B62-BDCF-CE9B06C4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5D81C7-B450-470C-B571-2C8135C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9945E3-2EFC-4317-89F2-C4505B6F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4F28C0-148C-4B65-A41C-9EC9A97A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1380C9-0EEE-4080-A8EC-44133CAE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402D23-8B37-4615-A4AF-03E3746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353AE1-B0B1-46CE-8AD7-930E686D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E9676F-7150-4E29-A203-460B013A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3115E0-1473-49CF-87FC-88C065D5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FF05BC-59EE-4753-BF98-C2CE1C8F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07B50-5A6F-474F-9FF8-C6DEB8EB7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6C98F4-F86F-4200-AC28-18F6F4117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A0E0E2-78EB-4562-B0AE-D44C21BBA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718A11-ABA7-41C8-930D-DC23AA2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7AF400-E374-42C2-BEB9-791D397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C26FDB-2F0A-4634-94F7-C120D1C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6F602D-948E-4435-AAD3-EFC12D24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781D68-CE00-4E72-8DAB-1334046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93433C-0015-4F7E-9486-819415A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CB3894-A757-429F-B966-E638389C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67C372-1E61-4552-89E8-8949032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E71B-438D-44F6-BBA5-3BFA67001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AAF65C-B8BD-4A01-A678-88F89A98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771C3A-9C38-465B-94D4-85475EB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E4E76B-24C4-4804-900A-4D7109133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5EC3E-9267-4689-9C19-0ED8A0AD7E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ECF03-4EDE-4FDF-8955-E6CEAC56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BFDFA-C62E-403C-990D-D3B905F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9A045-7674-427B-A9D9-3B9D9AD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7DD60-52D1-4C69-AD21-99D2A496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CA028-BA4D-4522-9598-E25E8EAC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1B34C-B8F6-4F19-910F-D8662E6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B1F-050B-48B1-B088-10DD0888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9A517-4E96-4779-8962-9042000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6437F1-50B0-4999-9808-7DBCB46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18E98-2043-4E36-904F-7BF6653C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5DC13-C88A-4904-9EF1-1055EDD8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9ED77-9B79-4B9F-B47E-473519142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2A5B22-6344-47E8-B16B-91D53995C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741E4E-91E4-4052-A2F8-5D81C17B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28684A-99AD-424C-B55B-9E265077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56CAEF-2688-47F4-A257-F2ABA76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EF5B6D-79D6-4D08-A2FA-2B43D789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2E10-884E-4F37-A6EE-4C6ED7EB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5E9EC1-E935-48EB-9BFD-139F4255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AED285-7B9E-4477-AEF8-59E2A3D3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53A6B1-4224-42D3-BBA2-63A755E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1430EB-806D-4439-B51E-DF43635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4BF2BC-0745-422A-9957-FAF7850D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A4DF68-55C5-4A26-A7B6-AD8A4058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D57367-FF43-46C6-85AA-15F3A4310B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04D48E-1E36-4721-9955-FF5EA3164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3F5605-A6D2-4AFD-97BF-41653A15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8E6D46-9568-46B2-BD84-01C6DBE7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1B62-33EE-4FB4-84E9-942B340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4EACF5-6987-4591-990B-056EBE69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E34285-613D-40EF-9C20-5C8ACEAC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13F3DE-866E-463E-BD08-F981E169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7ABD41-EE21-43C5-A3BE-5A0CC6C3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705A60-9923-468F-A97E-E8A35FCF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0A8BE4B-FD8F-4CAC-8623-FD9F654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2DE513-0E51-4DF1-B945-EBA89C81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F18A6E-EF12-4379-AD18-ABF7875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2C960F-AA17-4291-AABE-76CD0F0A3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8632A-7506-42BB-A605-0035659E7E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35F-E12E-46C2-9ADF-C2F3B1DC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1114EE-7327-4672-951E-8A00F266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7704C-2501-40FF-B671-F8EED50E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156AC-D13E-4AEC-B639-9223768E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5F682-D3D8-4F12-8ACF-C85F0953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4A56B-889A-4B4F-929D-11261DD3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20D03-217D-4C05-A228-88FEAB2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3548B6-C249-4CE1-B50B-2C86E139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E9559-3697-4A55-A733-4CBEF2B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0CA6E-EED8-4401-83BF-54810FF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47999-5A8E-40BA-B8FF-3E5BF64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9FAF-4C8D-4B99-90EF-FEA4F471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BF01-E45B-4088-973C-F9A33F34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FA7FB-1111-4FF8-967F-79D651104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F42903-EEC8-4FE6-83D5-728CA198B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933402-136F-44EA-A566-79CCE19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557917-D696-4B89-9690-2C63FC90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3C74AF-AFC4-4A2B-BC50-65B3704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10004C-8437-4EA3-B06E-D0E5D93B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210F96-86BB-4541-A5D5-B60EED20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0CC8A1-09CA-4D66-A43A-3B7F6BF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0BB877-2AA6-4F9B-8968-FD1001E2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CAC43B-F2AE-4110-B9A5-9AF76C0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6C72-8018-4D99-982A-BC86AD2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9C5480-E449-4050-A590-50ACC2C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41F6F6-739F-48C1-BA13-2FDF166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ADE227-1D1C-4391-8AFE-ECD78BABFF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E3AAFF-D5FF-4D13-9A46-8416AB686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B8A853E-61C6-4F53-8D49-8964589F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DEF545-4CE9-4B82-ABB9-C61E06EF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E6AA8E-767B-42DE-9F1D-E53E1D43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BC4B06-8182-4419-A066-2D6566AD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BD332B-13AD-43FB-A012-D908E4CE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289A16-F2CB-4B4C-BDF8-D72DE148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D7E-48D3-43D3-A6E7-50D5D473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E205B2-B1AE-46D2-9576-CA4EADB9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C4886F-EBCF-4871-9255-13AFFF08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2E9A59-8D6D-4527-A733-C4AC37B5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255585-0FAE-4D59-8C95-C7F9274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99DDB2-913A-4AF6-9CF9-44387965C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BC684-C649-4422-8C37-73D9EDA7FA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73507-F926-43CD-9042-011BD7C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28315-07C7-4693-9A9E-DBB75FB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F3C98-0D11-4366-9F4D-CAA19C34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0667C-0911-4D92-B8E6-1E84C53E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BC7-7FC0-44FF-B01C-736A1DAB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7D629-523F-41F2-B978-73839E99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AD1DF-9A2C-48D9-9AA6-441238C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0FCE1-EB37-4DD3-A391-873F288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DED50-DACA-4398-8DCC-0332281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ECCD8-FCCA-46F0-8034-0299732A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97B1B-F869-45CA-B096-AF4C54A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B76E77-6AE9-4A10-920F-7575DD78CB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E34852-7EB4-4B36-95BF-590030CFB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39A68C-395E-4162-8903-61A19C5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1A38FA-CD8D-4ED2-BC97-2184582B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D44-5BA2-4117-BF39-90D3B8A2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9E0EAE-D741-465C-8899-2229268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877393-5549-413B-A6C4-F90C2CBE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BCF2D9E-7CCC-4CDA-8581-460C28BD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B2DC1B8-7846-425B-8C09-3CBF4336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26E2B6-BE7D-451E-A961-D3545ED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2D01B8-980F-48F1-B224-D47CB07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1DA5D6-4550-45E9-A4F6-7762E35A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D7F528-2A5A-4D97-9F92-8707181F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C5C493-1946-4428-917A-584C8A2E8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7FAB4C8-8C4A-4A3C-B072-B95464421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2AA6-3CCE-4E50-821A-DFE2BFF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70DE33-C294-47FC-AF4C-0E8F0A1B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A3421F2-2B08-4248-A38A-A3904E9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DC2CCB-C7F2-432A-8B98-C5C2E692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6B1DA7-F2E0-42EC-B3C6-1BE9882E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306568-6573-4397-9F2E-161D2F53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A2DCD6-0382-4210-8D49-A2B94F15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849710A-BDCC-434F-9A3F-B716F7C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6B49A51-BBBB-4BD5-8865-3ED070AF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F32762-0B49-4022-9314-8349EC2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35133B-1B14-4CE3-86F4-6D547D7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624-1A5E-47FC-A2AF-5D50B1888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C30088-E854-4913-9C0D-91EC76E52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30E24-6861-4B68-9A4F-7D1827F8D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C8D42-0EFE-47A7-8F0F-2891E244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A1B15-76E4-41E6-BE5A-80F8B2F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E7693-32A2-45BA-AD7B-D22384E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F2127-F3C5-4383-A197-AA186FB5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DB41B-3FAE-4FA9-A854-66655D5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DC1DB-6C9B-469F-A5A8-22769C52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F1771-05F8-48ED-BF0D-EA2F02B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C2D59-EFDF-49B8-8F09-69378E95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5A17-D38A-4AAF-B19E-0892122B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2D35E2-894F-4567-9311-4EA7B71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5D193-F5BA-4BBC-8519-A6997F7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DB9E9-C706-45C9-9A19-E05E02B6C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295061A-3797-4992-8250-AD15F9C7E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833BFE-18E3-48C2-A1D5-8DD16793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F48370-8580-4BEA-A8FB-75F3E62F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660AA0-7232-4BEE-8B91-2FA9E51F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875B9A-AFD4-42B9-8198-AB2BF456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ABC3A5-AA00-42EC-A3C8-2C516F03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EE93EBA-F8D7-46F9-A628-60074140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FBBE-F80F-4E40-9F75-AC61A2A7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60F2C4-EA13-4198-AAA7-4103277A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7D9A1B4-0BC0-48AB-A859-FD00280F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7BEE6AF-A92D-417A-8872-EE7024B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496B95-4C54-44D1-A6DE-AF9AF61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A54DA6-E466-4423-B2AD-FBFD10F36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F46503-C022-4CFE-BE10-A6B0BAD30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67FE89-9CF0-4E27-AC71-1D8324A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759884-80CF-4B34-BE5D-E89F2840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8B162B6-E232-4294-82ED-2F76D68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4C1C43C-91F4-4063-8B8A-422CD94D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86D5-16B3-4E6A-AD99-FE638607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12B245-4668-440E-9834-8C100845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E7A444-FB23-4927-A32B-9C1C4089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5536851-4A85-464D-8F74-30990E0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18EB4E-A5B0-42D7-9363-77ED763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BC744B-A62D-4CDA-B5A6-6ABFEFB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9EB160-CBF3-489B-A840-248D2FD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B900D3-AF36-423C-A79A-BA7F6FFB7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A948BC-9D9F-4B4F-AB87-3885D560C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E247E-E37C-4D83-BB58-459D555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D83C5A-E84A-47FC-9522-AB77B45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02E6-9CB9-40C1-9935-7EA51EE7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2691-0333-4C0D-86CC-1D109406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0465D4-200D-4B54-AFE9-CE092799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B2E4B-50EA-4655-B04B-6A6C21A7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CAA76-EABB-4996-B940-C79E5EFC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9D5C0-9D22-49E0-B178-92A317B3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0704B3-CB50-4EB7-9754-1693691A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EBA9C6-2BCB-4505-BA7F-11FBC54E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80CA1A-0A50-4741-96F7-182AD9D5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B58C9-86AE-4B8C-8376-BEBEEE91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4C2DA-8F42-4F43-A4D2-36113F6BB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D72A25-B006-4674-A1D7-482F98BB1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7BB7-8CEA-48A0-84DE-E50E0BF5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CD0433-DAD6-4D34-905D-9FB5C9E4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668B7B-1F4D-4E05-9A4B-C983783D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DCBC71-63B3-436F-8FC9-BB2E719A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DF7FEE7-6D73-4855-9DE2-ED132249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DE9912-D093-45EE-98E8-1E4D1255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DDEBFB-7E2B-42C4-90D5-AF638EE1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3AA7A0-B650-4532-B55B-CA6FBBA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9B7C88-5A98-46B4-8025-2CC50567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6BB7A6-EBCB-403F-B56A-A3858799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CD5186-8D48-40F4-92AF-892398EC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7BC1-4066-4922-A0A9-AF13FD2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BB1C239-C58A-435E-8403-4D941E5186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6958EA-DEF8-4584-943E-06F32A0B21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31CBAA2-FA1A-47BA-89ED-7650807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26D0F2-B2EC-4510-9E78-C55DB4E5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C92B1F-9600-4474-BB4A-840C46D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6DEEA7-CE0E-42FC-B555-3F2E0598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EDD3B2E-A8B3-4559-8C7C-292186AA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5C86EE7-CBF2-4302-974D-02BBF8BE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A0A02C2-E037-40B5-A39E-106090DD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314516C-E06E-4D6D-B545-E59E273F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3AD4-448E-4376-84FF-A2BF10BB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18A596-9B5D-45EA-AC41-01E628A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791AA6-72A1-4A87-B3A6-5A9724F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F74CAD-34C0-4F03-8A27-515EF7523E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D00550-5592-4168-8FFE-A01C6C9FCD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0F9E7C-23E5-44A9-8A9C-B2F043B3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9201E8-D0A1-4E06-97A6-37B3730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B119B-02C8-4E03-9745-09C9939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629482-A8B6-43B4-A0A8-79270802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23610B-51C5-456A-A655-92051E56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3B72B-614A-414C-8B3F-5A8195B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2A0D-BEB7-49CF-A35D-E777AFF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9CD6D1-362C-4F5C-A203-F034897F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337734-2639-4D16-AFB4-8C4B7C3E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35D65D-81F1-4479-9E16-B33A686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9BF13F-9B39-415E-A286-87F2F6B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511E7-0AB6-4800-A104-6309DF6AC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5EE704-89B5-4F9D-9D9C-33325D9A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D80FAF-A24A-45E2-BBC5-BBDEF9F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600115-6BA6-4838-972F-20AC380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072C14-833C-4866-80CD-A3589100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E093C4-1752-4498-814F-4D1805C1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C9FE-4DAC-455D-B49F-6EAE04E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270424-F296-41CC-9762-F87F15D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91BF61-E775-4FDF-87DC-AA302B07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0255AD-987A-4227-B705-AD45E12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FB36D6-C3C8-4B80-ACD4-8AA63B3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399F0C-135D-42EA-8357-A4511060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80A187-5461-46EF-BB8C-828498AF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C68BEF-C038-4AAE-B5C0-9CDFE7C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65BFCB-EA52-475C-A39A-914F41BC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CCDC2-9AAD-4F9B-8571-6B9C4328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67FA40-8114-4BFE-8B29-AA3C04B0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BC33-EC13-49DF-ABAC-F85174B2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7C821E-A81F-4832-9D61-C31CAC1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F136FA-C77D-4EFD-899C-C1738E8F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47AD64-7762-4EA8-AB59-1F0C796F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9C0B66-F21D-42B8-86AC-FAEEEE8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08B26C-FC12-404A-984F-517A064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33CB0-9E01-4269-BC17-CC895BF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CFF6EE-6EE6-4A5E-868E-955DC70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4838D2-6FFA-4462-B9C3-C808DE04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42DAC7-BB1B-4A04-8392-FBF48E0E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106ADF-CFB9-4B57-AEC3-86F4EC59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4D12-D313-40C7-83D1-6D62B46B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84080-0286-4372-BBD7-6D601200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AFDCFB-6EE3-4FAE-8AC5-EA6A8E0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50E252-BFCC-4134-8514-9563A18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A442AC-7A08-48F9-8243-F3492D46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DF8E9D-2F9F-46F8-8E58-E18840C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E11E92-5130-4836-BB53-9254F1A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734C1B-52D2-49E4-8C5F-4B5CC88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4C7048-48E3-4C48-A755-78ED45D5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114AD8-02CA-4F51-9039-1495987F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20C9A8-68F5-4832-92A6-D336421B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9A46-6F17-484D-AF20-1B750209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0ACAE0-05A3-4FE7-8C62-FF02D84B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AB2476-E713-42A2-A0B5-F2C39E50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CA5938-A212-47C4-B49D-34EB5B91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37122C-B233-487E-BE29-A4E641EC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914F9B-033C-4EB0-82FA-E5AB138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F3AFD8-39D9-4636-AFE1-8697DD16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814958-824C-4A4E-8ACD-301DA92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6A1CF2-7E0B-49F4-8D09-9278D4F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982DA4-B6DA-4624-A4AD-47C8225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B3C396-A0E5-463F-A6F2-FC8C4824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AC911-8DF6-4858-B652-7ADB55D60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A61B95-C01C-498B-8810-DA677C0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DA1FD9-6984-4E5F-9901-AB5FB235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B988EC-232B-47CD-93DF-2191C09F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EB9EAF-BE21-4D4C-8FE8-9D9F7694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02031A-D35A-4CF6-8EE8-8D216A7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65A233-43FF-42F1-B89C-296B125E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5EE217-B85E-4355-BD78-BD901369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EDF4BB-1B8D-4E7C-8918-8584B54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81ED00-926B-46EC-BAF5-F5516F53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3727CA-4451-481A-B178-29CCDCC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D140-E4BB-49C5-96D2-A0A09C7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12A20-9778-4B9D-B484-F34EFBC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FBCA75-58A0-441A-AF3B-2DE6348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4DF571-7B22-42F5-9CEA-A9225AD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8C5453-AD49-4932-916F-020DFCC4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8A3579-154D-475D-988F-DC7AC9D5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087EBB-4E8D-42E4-84DA-C95C6760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2BDA0A-7CE9-4B67-B059-5688D494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E071ED-2379-4D2C-983F-63DF5B8B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EBA9A3-A1EE-44DE-AAAB-F788F71C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C4858A-881C-4BF0-9024-9A6416F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E3CCE0-1524-438D-A2CD-1F1F489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254CE-6CA4-40C2-86F3-B20D4A4F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84FA09-0A5C-410E-8786-8432E3A7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4F1BF4-FB4B-4FB4-9853-32587E5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5575A7-F661-456F-88E9-4967BCA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DC74AB-3D59-45DC-94AE-9F17F292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E279D0-B9FC-4A2F-90C5-3E0B8868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E31558-46F5-4CB0-BC23-01FE9B3D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717A9B-F807-4158-A9F7-95B4AC78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BE28EA-F2C7-46FB-85AF-7600CDC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022576-60C7-456E-A3D0-FE4D9DB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E00524-6601-4817-BBBF-D26B3BC1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71E71-E72D-4C21-B937-B7F60140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CEABD3-52B0-4773-98C9-8FD98793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E8FC6A-1B96-42BB-BAFB-A87AFEE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DE1830-6875-4771-96EB-63E852AE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27C639-9EC1-4B6F-8482-E603804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828E90-6A37-4EC1-8A7F-7A7B66D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9BE6C9-20F5-45F6-BE07-1ADED9FC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C7F2EA-19A4-4641-9890-7744EE2C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85D68E-FD44-4E49-8633-645D43DA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9DFA35-BD61-49B9-BDA6-6F0AFBE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0ADCA9-898B-44D8-AC63-8E0980C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E460C-A580-4FB8-A677-A48A54E5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C52555-0550-4683-A1D9-1ADBADF3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996660-BCC0-44D3-93E0-40335D21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0D0EB3-9F3A-4E23-BB41-19E07D5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D04F1B-6DDC-4FDC-A3CD-3DDF93B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6E7E4A-A1B9-441A-9EF2-E1ACD16C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3888AA-C088-4612-B2F6-07E5917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628636-CE77-45EC-BD9A-4FA9115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E30F7F-A6AE-4965-8FFC-0FBB59F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52BA2E-6693-4A65-B06F-75E106B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E91A4A-FEF4-4811-AE5D-252467AC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6A36A-3C3C-47DE-85D2-1E38ED95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D93401-ECCE-4497-81CC-D919C5BA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931EDE-5341-4C56-AFED-A813DC58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57A1F7-535D-4AB0-88ED-264B9843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5B06A1-2474-407C-97B5-9BFD4F26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77B386-749B-4127-9FBC-E1E2DCD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FA888B-326F-4870-A4F4-F50601B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12E7D3-1455-4B63-BFAB-E232D74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D2ED50-12FA-415C-B85D-FEA05AC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233B53-0340-48CB-A013-A04923B4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DF7440-D6BD-4809-ADC3-2EDA4B2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92B3E-756F-4A10-8E62-ED8D827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05120D-A309-462E-8D33-CE864C70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A2B692-BE44-43A8-8C52-AC9F51EB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65D51D-33EF-439B-A79F-CD2A4FA3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010CA5-D8E8-4C4F-9695-4B37CD8A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6095B7-3B11-4D55-B32D-C898A12E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59C1E4-7A80-4D9E-9CEB-7B853891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30C048-3AFC-466B-B859-6DFAAF94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F4CB3B-1E0D-488E-93EB-84C5B98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E5DF61-514A-446F-BDDB-6EC908F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C5A6EC-822D-4950-BD4C-354D6C8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F943B-BF76-47ED-9155-9D6FE29B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894B32-95F5-4E56-9DCA-D88CD57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0E8F8C-347C-4CD0-8DBE-9547106E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D4F4B9-F5B9-4160-A62D-A08082D0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1BB54A-071B-46EC-9FFA-45B2B56F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305D30-6FE7-4C0B-9E42-A5ADED3E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EBBF9D-BAC9-492C-B51D-8B3130E4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6B5AB9-51FB-4EDF-91A7-7FAF653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4A9C62-32FF-460A-B51B-4D75EAF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16BA9D-0D83-4E1E-8750-32986F2A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EB35B9-99F6-4997-905F-3E3CDD59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1B6FB-7F66-461C-A354-DE268092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2AE85F-DBDC-4C52-A325-8D00AF8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802B0B-F0B3-4F99-ABC8-AF881AF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23E384-679A-48B0-B370-6E076DC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10CB4E-C702-4E91-9970-141B1C8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32CA06-8DF6-4CAA-AE51-DC1378FA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E4086F-A839-4AE9-8C76-5C7BB774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8C0A8D-BC63-4126-BDBA-2B37E582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B314A-1200-4DCB-A6EC-5C8568A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6AC13-973E-444C-AB25-80FA020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0C31-3D0E-4EDB-9EC4-804A5382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BC94B-7A88-471F-B545-05565ADCB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4077F-B93B-48BA-BD48-A6F4029EB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10607-92B3-4FDE-ACB1-56D857F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78D38-306F-48A3-9C7D-89BF41A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4B2C9-86FD-4A23-BF01-4C778F3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92A26-0B10-4A95-8274-9E44E4D7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DBF9B-07AB-4582-8288-37BAE2ED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F1396-07AB-4E60-A124-D6C80F97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941FFA-4070-4AE9-B9D1-4CED6A8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659C3-C7D9-416A-8875-41D859A1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6220-E15E-4BBC-8CAB-CDE7B6F1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DAA2E-687D-4493-9072-7791D38B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2BDCAC-6D73-4A8F-8297-D2D1302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598983-81CF-45C2-89EC-27123ADB9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0517-15CC-4871-BA10-369894213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D85E-C28F-49B8-ACB4-95A1B4D2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B8D3D-58BD-4E8C-9A58-F704D97D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3C6E-EEF7-41C2-96F5-50D4079B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6060-A8F9-4EC2-AE0F-794D329F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A364-6C38-4238-9D48-8D23975C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7073-7A62-4AF2-BEAB-A360F3DA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A32E-5FEF-4525-8B8C-AD955EFB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CD94-2A00-4749-A216-61D888F2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A910-2D49-44F6-AD77-D17D2661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F638-06F6-4EA1-A7D9-F96F56AA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E43A-E914-4778-B82F-EAA445B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61D65-9D6D-4C5E-93F4-C28F88DD0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B2A61-9D47-4D44-96F8-5AA34A403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936F4-8CF7-4EA0-A508-701B48E0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79288-D988-492A-BCFC-FF6E8DF5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09E3A-9E44-44F5-B249-6F9B32D4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D4F07-6C1B-4DE5-8E4B-43A989DA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73B1-9F4F-4000-A8FC-4CA65C04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3A5FF-0D75-4B7C-A9B1-ADFD9664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01EA3-4614-424A-AAAB-E2272E91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0EA72-7117-4CB2-B277-4416571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6B09F-66C4-4E05-B509-500DE20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A4EE8-5BF6-41F9-8B05-E1BD0E8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EE8F6-E2D7-4D6F-BFE3-3CB9288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603D2-9D66-469C-BD2C-E386678B9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425CE-4F01-4269-A818-65E8400E9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6D7DA-4FF6-4592-88DC-EBFB764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AA81D-91FB-40FC-8F41-1A0A0A30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7649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椭圆 27650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" name="椭圆 27651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" name="椭圆 27652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" name="椭圆 27653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" name="椭圆 27654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B7C-5786-46AF-8666-60E3E79A824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259-EC59-4DBD-B677-A79A67E851D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B72-37AB-4DF0-9ED2-BA3D47E4D0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1774-6EF6-4026-9256-D299BA919BE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4FE7-7231-4B47-802E-5694D97B13C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137-DED4-4D41-91B0-CFF5ACBA689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F204-ECF2-4B95-897E-B8713A0ACFF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29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0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1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2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3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4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B8C9-FE80-4ED7-8942-8AAD0CA4852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7D7-1CAE-4FFB-8B63-25DA93416BB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3B02-7C62-459E-807D-53DF50F00A7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E46B-60E6-461C-A155-E777F8999B2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8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1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2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AA8A-0877-40DE-97F4-ABF95EA808D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9743-3FFD-4AD4-A932-BD0FA70CDAF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736-B5F5-47F4-A271-23714F37ABD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DF31-0B92-4AB3-8AB6-C5423D9C70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C9A-EAD8-45E7-A778-63B854575C3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2FD5-5833-4D6E-9FBD-B2AE5DEDE56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8C29-790A-4B92-8EFB-76BBD6C660E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D8B-5416-4FB3-B1B7-EC23467F0C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sldNum" idx="5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E96-337C-42D3-8228-CF79E9E7D51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5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CBC-8E54-4519-958F-3906FEA79ED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4B5C-E4F9-40EB-AF6D-9DDB9FB2309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8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9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4D4-74A8-42B0-87B6-20084D0F3AA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6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0E49-D24A-420A-A8BE-48CB6587EB2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6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CA3-4078-42E2-BA5B-4142123D28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0153-2761-402B-AA1F-2B1D5628C3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sldNum" idx="6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B602-FABE-4229-9DA0-9DDA45D40B8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6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3805-DF36-43F5-B8BA-7257BB06409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4F4-DAEC-4D44-A974-BEDBC69DF06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sldNum" idx="7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7687-385B-4A63-BE48-B9A311FA26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dt" idx="7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4FE-792C-4EC4-9C68-D9013B64911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6559-2CAD-4904-B202-AD92CA6C97D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98F9-250B-48C9-9596-7C2F6F91FFF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2D8E-4FFD-431B-9930-477C58EC404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C830-9BE3-448B-A6D0-4CCAF4E01E8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1E1D-A6A5-4372-B038-48531BA0630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D4F-3264-43F4-91DB-D7CAEB1FA0E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650-CF35-4917-B293-75F254FBB20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F11D-6145-451E-9FCC-8B5E46C43A4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9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85F-CA8D-46D7-B3EE-92C1B25FA85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304-8F84-4BD5-9503-F81B89A6F20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4AC-D382-4905-B519-F510D9A7AD4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AFCB-76F9-47B3-87CD-3408205BE88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1A99-DB91-477C-9429-40B8F3E1AF6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F7E-FE96-4740-870B-8E81C1DC87E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E8F-5406-4A53-AF19-4EFDC08D06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FC09-5E88-4937-BE84-5DC41DA28F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AE4C-457A-49FE-B0DB-B31DDB15C17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矩形 5136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7" name="矩形 5137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8" name="Rectangle 7"/>
          <p:cNvSpPr/>
          <p:nvPr/>
        </p:nvSpPr>
        <p:spPr>
          <a:xfrm>
            <a:off x="1692360" y="76500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分数乘法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9" name="TextBox 3"/>
          <p:cNvSpPr/>
          <p:nvPr/>
        </p:nvSpPr>
        <p:spPr>
          <a:xfrm>
            <a:off x="1585800" y="236700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乘整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70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755640" y="836640"/>
            <a:ext cx="785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2"/>
          <p:cNvSpPr/>
          <p:nvPr/>
        </p:nvSpPr>
        <p:spPr>
          <a:xfrm>
            <a:off x="577800" y="331488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  <a:ea typeface="宋体"/>
              </a:rPr>
              <a:t>（一）出示信息，明确问题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4" name="Rectangle 2"/>
          <p:cNvSpPr/>
          <p:nvPr/>
        </p:nvSpPr>
        <p:spPr>
          <a:xfrm>
            <a:off x="1376280" y="3943440"/>
            <a:ext cx="8185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试着用图表示出题意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5" name="Rectangle 2"/>
          <p:cNvSpPr/>
          <p:nvPr/>
        </p:nvSpPr>
        <p:spPr>
          <a:xfrm>
            <a:off x="684360" y="2276640"/>
            <a:ext cx="712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小新、爸爸、妈妈一起吃一个蛋糕，每人吃   个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共吃多少个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76" name="组合 19462"/>
          <p:cNvGrpSpPr/>
          <p:nvPr/>
        </p:nvGrpSpPr>
        <p:grpSpPr>
          <a:xfrm>
            <a:off x="6296040" y="1989000"/>
            <a:ext cx="365040" cy="824760"/>
            <a:chOff x="6296040" y="1989000"/>
            <a:chExt cx="365040" cy="824760"/>
          </a:xfrm>
        </p:grpSpPr>
        <p:sp>
          <p:nvSpPr>
            <p:cNvPr id="1977" name="文本框 19463"/>
            <p:cNvSpPr/>
            <p:nvPr/>
          </p:nvSpPr>
          <p:spPr>
            <a:xfrm>
              <a:off x="6296040" y="235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8" name="文本框 19464"/>
            <p:cNvSpPr/>
            <p:nvPr/>
          </p:nvSpPr>
          <p:spPr>
            <a:xfrm>
              <a:off x="6300720" y="198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9" name="直接连接符 19465"/>
            <p:cNvSpPr/>
            <p:nvPr/>
          </p:nvSpPr>
          <p:spPr>
            <a:xfrm>
              <a:off x="6335640" y="241776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80" name="矩形 1946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1" name="矩形 1946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引入情境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二）探究意义，感悟方法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4" name="Rectangle 2"/>
          <p:cNvSpPr/>
          <p:nvPr/>
        </p:nvSpPr>
        <p:spPr>
          <a:xfrm>
            <a:off x="179280" y="191772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示意图表示题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5" name="Rectangle 2"/>
          <p:cNvSpPr/>
          <p:nvPr/>
        </p:nvSpPr>
        <p:spPr>
          <a:xfrm>
            <a:off x="108000" y="371808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画线段图表示题意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86" name="组合 20485"/>
          <p:cNvGrpSpPr/>
          <p:nvPr/>
        </p:nvGrpSpPr>
        <p:grpSpPr>
          <a:xfrm>
            <a:off x="990720" y="2492280"/>
            <a:ext cx="5290920" cy="1364040"/>
            <a:chOff x="990720" y="2492280"/>
            <a:chExt cx="5290920" cy="1364040"/>
          </a:xfrm>
        </p:grpSpPr>
        <p:grpSp>
          <p:nvGrpSpPr>
            <p:cNvPr id="1987" name="组合 20486"/>
            <p:cNvGrpSpPr/>
            <p:nvPr/>
          </p:nvGrpSpPr>
          <p:grpSpPr>
            <a:xfrm>
              <a:off x="990720" y="2492280"/>
              <a:ext cx="3130560" cy="1364040"/>
              <a:chOff x="990720" y="2492280"/>
              <a:chExt cx="3130560" cy="1364040"/>
            </a:xfrm>
          </p:grpSpPr>
          <p:pic>
            <p:nvPicPr>
              <p:cNvPr id="1988" name="图片 20487" descr="01"/>
              <p:cNvPicPr/>
              <p:nvPr/>
            </p:nvPicPr>
            <p:blipFill>
              <a:blip r:embed="rId1"/>
              <a:stretch/>
            </p:blipFill>
            <p:spPr>
              <a:xfrm>
                <a:off x="990720" y="2492280"/>
                <a:ext cx="313056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9" name="右大括号 20488"/>
              <p:cNvSpPr/>
              <p:nvPr/>
            </p:nvSpPr>
            <p:spPr>
              <a:xfrm flipV="1" rot="5400000">
                <a:off x="2482200" y="2140560"/>
                <a:ext cx="109440" cy="2663640"/>
              </a:xfrm>
              <a:custGeom>
                <a:avLst/>
                <a:gdLst>
                  <a:gd name="textAreaLeft" fmla="*/ 0 w 109440"/>
                  <a:gd name="textAreaRight" fmla="*/ 39600 w 109440"/>
                  <a:gd name="textAreaTop" fmla="*/ 69120 h 2663640"/>
                  <a:gd name="textAreaBottom" fmla="*/ 2594520 h 26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0" name="文本框 20489"/>
              <p:cNvSpPr/>
              <p:nvPr/>
            </p:nvSpPr>
            <p:spPr>
              <a:xfrm>
                <a:off x="2214720" y="3457440"/>
                <a:ext cx="115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？个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1991" name="图片 20490" descr="02"/>
            <p:cNvPicPr/>
            <p:nvPr/>
          </p:nvPicPr>
          <p:blipFill>
            <a:blip r:embed="rId2"/>
            <a:stretch/>
          </p:blipFill>
          <p:spPr>
            <a:xfrm>
              <a:off x="4662360" y="2532240"/>
              <a:ext cx="161928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2" name="组合 20491"/>
          <p:cNvGrpSpPr/>
          <p:nvPr/>
        </p:nvGrpSpPr>
        <p:grpSpPr>
          <a:xfrm>
            <a:off x="1116000" y="4191120"/>
            <a:ext cx="3994200" cy="1759320"/>
            <a:chOff x="1116000" y="4191120"/>
            <a:chExt cx="3994200" cy="1759320"/>
          </a:xfrm>
        </p:grpSpPr>
        <p:grpSp>
          <p:nvGrpSpPr>
            <p:cNvPr id="1993" name="组合 20492"/>
            <p:cNvGrpSpPr/>
            <p:nvPr/>
          </p:nvGrpSpPr>
          <p:grpSpPr>
            <a:xfrm>
              <a:off x="1116000" y="4191120"/>
              <a:ext cx="3994200" cy="1147320"/>
              <a:chOff x="1116000" y="4191120"/>
              <a:chExt cx="3994200" cy="1147320"/>
            </a:xfrm>
          </p:grpSpPr>
          <p:grpSp>
            <p:nvGrpSpPr>
              <p:cNvPr id="1994" name="组合 20493"/>
              <p:cNvGrpSpPr/>
              <p:nvPr/>
            </p:nvGrpSpPr>
            <p:grpSpPr>
              <a:xfrm>
                <a:off x="1116000" y="4952520"/>
                <a:ext cx="3994200" cy="385920"/>
                <a:chOff x="1116000" y="4952520"/>
                <a:chExt cx="3994200" cy="385920"/>
              </a:xfrm>
            </p:grpSpPr>
            <p:pic>
              <p:nvPicPr>
                <p:cNvPr id="1995" name="图片 20494" descr="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16000" y="5166000"/>
                  <a:ext cx="3994200" cy="17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6" name="右大括号 20495"/>
                <p:cNvSpPr/>
                <p:nvPr/>
              </p:nvSpPr>
              <p:spPr>
                <a:xfrm flipV="1" rot="16200000">
                  <a:off x="1516320" y="4597200"/>
                  <a:ext cx="143640" cy="865440"/>
                </a:xfrm>
                <a:custGeom>
                  <a:avLst/>
                  <a:gdLst>
                    <a:gd name="textAreaLeft" fmla="*/ 0 w 143640"/>
                    <a:gd name="textAreaRight" fmla="*/ 51840 w 143640"/>
                    <a:gd name="textAreaTop" fmla="*/ 22320 h 865440"/>
                    <a:gd name="textAreaBottom" fmla="*/ 843120 h 865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97" name="右大括号 20496"/>
                <p:cNvSpPr/>
                <p:nvPr/>
              </p:nvSpPr>
              <p:spPr>
                <a:xfrm flipV="1" rot="16200000">
                  <a:off x="2389320" y="4597560"/>
                  <a:ext cx="143640" cy="865080"/>
                </a:xfrm>
                <a:custGeom>
                  <a:avLst/>
                  <a:gdLst>
                    <a:gd name="textAreaLeft" fmla="*/ 0 w 143640"/>
                    <a:gd name="textAreaRight" fmla="*/ 51840 w 143640"/>
                    <a:gd name="textAreaTop" fmla="*/ 22320 h 865080"/>
                    <a:gd name="textAreaBottom" fmla="*/ 842760 h 86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98" name="右大括号 20497"/>
                <p:cNvSpPr/>
                <p:nvPr/>
              </p:nvSpPr>
              <p:spPr>
                <a:xfrm flipV="1" rot="16200000">
                  <a:off x="3254400" y="4591440"/>
                  <a:ext cx="143640" cy="865080"/>
                </a:xfrm>
                <a:custGeom>
                  <a:avLst/>
                  <a:gdLst>
                    <a:gd name="textAreaLeft" fmla="*/ 0 w 143640"/>
                    <a:gd name="textAreaRight" fmla="*/ 51840 w 143640"/>
                    <a:gd name="textAreaTop" fmla="*/ 22320 h 865080"/>
                    <a:gd name="textAreaBottom" fmla="*/ 842760 h 865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999" name="组合 20498"/>
              <p:cNvGrpSpPr/>
              <p:nvPr/>
            </p:nvGrpSpPr>
            <p:grpSpPr>
              <a:xfrm>
                <a:off x="1427040" y="4191120"/>
                <a:ext cx="365040" cy="824760"/>
                <a:chOff x="1427040" y="4191120"/>
                <a:chExt cx="365040" cy="824760"/>
              </a:xfrm>
            </p:grpSpPr>
            <p:sp>
              <p:nvSpPr>
                <p:cNvPr id="2000" name="文本框 20499"/>
                <p:cNvSpPr/>
                <p:nvPr/>
              </p:nvSpPr>
              <p:spPr>
                <a:xfrm>
                  <a:off x="1427040" y="455616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1" name="文本框 20500"/>
                <p:cNvSpPr/>
                <p:nvPr/>
              </p:nvSpPr>
              <p:spPr>
                <a:xfrm>
                  <a:off x="1431720" y="4191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2" name="直接连接符 20501"/>
                <p:cNvSpPr/>
                <p:nvPr/>
              </p:nvSpPr>
              <p:spPr>
                <a:xfrm>
                  <a:off x="1466640" y="461988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03" name="组合 20502"/>
              <p:cNvGrpSpPr/>
              <p:nvPr/>
            </p:nvGrpSpPr>
            <p:grpSpPr>
              <a:xfrm>
                <a:off x="2300400" y="4202280"/>
                <a:ext cx="365040" cy="824760"/>
                <a:chOff x="2300400" y="4202280"/>
                <a:chExt cx="365040" cy="824760"/>
              </a:xfrm>
            </p:grpSpPr>
            <p:sp>
              <p:nvSpPr>
                <p:cNvPr id="2004" name="文本框 20503"/>
                <p:cNvSpPr/>
                <p:nvPr/>
              </p:nvSpPr>
              <p:spPr>
                <a:xfrm>
                  <a:off x="2300400" y="45673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5" name="文本框 20504"/>
                <p:cNvSpPr/>
                <p:nvPr/>
              </p:nvSpPr>
              <p:spPr>
                <a:xfrm>
                  <a:off x="2305080" y="420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6" name="直接连接符 20505"/>
                <p:cNvSpPr/>
                <p:nvPr/>
              </p:nvSpPr>
              <p:spPr>
                <a:xfrm>
                  <a:off x="2340000" y="463104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007" name="组合 20506"/>
              <p:cNvGrpSpPr/>
              <p:nvPr/>
            </p:nvGrpSpPr>
            <p:grpSpPr>
              <a:xfrm>
                <a:off x="3160800" y="4202280"/>
                <a:ext cx="365040" cy="824760"/>
                <a:chOff x="3160800" y="4202280"/>
                <a:chExt cx="365040" cy="824760"/>
              </a:xfrm>
            </p:grpSpPr>
            <p:sp>
              <p:nvSpPr>
                <p:cNvPr id="2008" name="文本框 20507"/>
                <p:cNvSpPr/>
                <p:nvPr/>
              </p:nvSpPr>
              <p:spPr>
                <a:xfrm>
                  <a:off x="3160800" y="456732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9" name="文本框 20508"/>
                <p:cNvSpPr/>
                <p:nvPr/>
              </p:nvSpPr>
              <p:spPr>
                <a:xfrm>
                  <a:off x="3165480" y="4202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10" name="直接连接符 20509"/>
                <p:cNvSpPr/>
                <p:nvPr/>
              </p:nvSpPr>
              <p:spPr>
                <a:xfrm>
                  <a:off x="3200400" y="463104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011" name="左大括号 20510"/>
            <p:cNvSpPr/>
            <p:nvPr/>
          </p:nvSpPr>
          <p:spPr>
            <a:xfrm rot="16200000">
              <a:off x="2371680" y="4200120"/>
              <a:ext cx="182520" cy="259236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67320 h 2592360"/>
                <a:gd name="textAreaBottom" fmla="*/ 252504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2" name="矩形 20511"/>
            <p:cNvSpPr/>
            <p:nvPr/>
          </p:nvSpPr>
          <p:spPr>
            <a:xfrm>
              <a:off x="2364840" y="5551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13" name="矩形 20513"/>
          <p:cNvSpPr/>
          <p:nvPr/>
        </p:nvSpPr>
        <p:spPr>
          <a:xfrm>
            <a:off x="5383080" y="378936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二）探究意义，感悟方法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6" name="Rectangle 2"/>
          <p:cNvSpPr/>
          <p:nvPr/>
        </p:nvSpPr>
        <p:spPr>
          <a:xfrm>
            <a:off x="684360" y="227664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    是多少可以怎样列式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7" name="Rectangle 2"/>
          <p:cNvSpPr/>
          <p:nvPr/>
        </p:nvSpPr>
        <p:spPr>
          <a:xfrm>
            <a:off x="755640" y="350208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还可以怎样列式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8" name="Text Box 21"/>
          <p:cNvSpPr/>
          <p:nvPr/>
        </p:nvSpPr>
        <p:spPr>
          <a:xfrm>
            <a:off x="4633920" y="3583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19" name="组合 21510"/>
          <p:cNvGrpSpPr/>
          <p:nvPr/>
        </p:nvGrpSpPr>
        <p:grpSpPr>
          <a:xfrm>
            <a:off x="2076480" y="2119320"/>
            <a:ext cx="365040" cy="824760"/>
            <a:chOff x="2076480" y="2119320"/>
            <a:chExt cx="365040" cy="824760"/>
          </a:xfrm>
        </p:grpSpPr>
        <p:sp>
          <p:nvSpPr>
            <p:cNvPr id="2020" name="文本框 21511"/>
            <p:cNvSpPr/>
            <p:nvPr/>
          </p:nvSpPr>
          <p:spPr>
            <a:xfrm>
              <a:off x="2076480" y="2484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1" name="文本框 21512"/>
            <p:cNvSpPr/>
            <p:nvPr/>
          </p:nvSpPr>
          <p:spPr>
            <a:xfrm>
              <a:off x="2081160" y="2119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2" name="直接连接符 21513"/>
            <p:cNvSpPr/>
            <p:nvPr/>
          </p:nvSpPr>
          <p:spPr>
            <a:xfrm>
              <a:off x="2116080" y="254808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23" name="组合 21514"/>
          <p:cNvGrpSpPr/>
          <p:nvPr/>
        </p:nvGrpSpPr>
        <p:grpSpPr>
          <a:xfrm>
            <a:off x="5100480" y="2101680"/>
            <a:ext cx="1762200" cy="824760"/>
            <a:chOff x="5100480" y="2101680"/>
            <a:chExt cx="1762200" cy="824760"/>
          </a:xfrm>
        </p:grpSpPr>
        <p:grpSp>
          <p:nvGrpSpPr>
            <p:cNvPr id="2024" name="组合 21515"/>
            <p:cNvGrpSpPr/>
            <p:nvPr/>
          </p:nvGrpSpPr>
          <p:grpSpPr>
            <a:xfrm>
              <a:off x="5100480" y="2101680"/>
              <a:ext cx="365040" cy="824760"/>
              <a:chOff x="5100480" y="2101680"/>
              <a:chExt cx="365040" cy="824760"/>
            </a:xfrm>
          </p:grpSpPr>
          <p:sp>
            <p:nvSpPr>
              <p:cNvPr id="2025" name="文本框 21516"/>
              <p:cNvSpPr/>
              <p:nvPr/>
            </p:nvSpPr>
            <p:spPr>
              <a:xfrm>
                <a:off x="5100480" y="2466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6" name="文本框 21517"/>
              <p:cNvSpPr/>
              <p:nvPr/>
            </p:nvSpPr>
            <p:spPr>
              <a:xfrm>
                <a:off x="5105160" y="210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27" name="直接连接符 21518"/>
              <p:cNvSpPr/>
              <p:nvPr/>
            </p:nvSpPr>
            <p:spPr>
              <a:xfrm>
                <a:off x="5140080" y="25304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28" name="文本框 21519"/>
            <p:cNvSpPr/>
            <p:nvPr/>
          </p:nvSpPr>
          <p:spPr>
            <a:xfrm>
              <a:off x="5403600" y="2317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29" name="组合 21520"/>
            <p:cNvGrpSpPr/>
            <p:nvPr/>
          </p:nvGrpSpPr>
          <p:grpSpPr>
            <a:xfrm>
              <a:off x="5815080" y="2101680"/>
              <a:ext cx="365040" cy="824760"/>
              <a:chOff x="5815080" y="2101680"/>
              <a:chExt cx="365040" cy="824760"/>
            </a:xfrm>
          </p:grpSpPr>
          <p:sp>
            <p:nvSpPr>
              <p:cNvPr id="2030" name="文本框 21521"/>
              <p:cNvSpPr/>
              <p:nvPr/>
            </p:nvSpPr>
            <p:spPr>
              <a:xfrm>
                <a:off x="5815080" y="2466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1" name="文本框 21522"/>
              <p:cNvSpPr/>
              <p:nvPr/>
            </p:nvSpPr>
            <p:spPr>
              <a:xfrm>
                <a:off x="5819760" y="210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2" name="直接连接符 21523"/>
              <p:cNvSpPr/>
              <p:nvPr/>
            </p:nvSpPr>
            <p:spPr>
              <a:xfrm>
                <a:off x="5854680" y="25304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33" name="文本框 21524"/>
            <p:cNvSpPr/>
            <p:nvPr/>
          </p:nvSpPr>
          <p:spPr>
            <a:xfrm>
              <a:off x="6099120" y="23173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34" name="组合 21525"/>
            <p:cNvGrpSpPr/>
            <p:nvPr/>
          </p:nvGrpSpPr>
          <p:grpSpPr>
            <a:xfrm>
              <a:off x="6497640" y="2101680"/>
              <a:ext cx="365040" cy="824760"/>
              <a:chOff x="6497640" y="2101680"/>
              <a:chExt cx="365040" cy="824760"/>
            </a:xfrm>
          </p:grpSpPr>
          <p:sp>
            <p:nvSpPr>
              <p:cNvPr id="2035" name="文本框 21526"/>
              <p:cNvSpPr/>
              <p:nvPr/>
            </p:nvSpPr>
            <p:spPr>
              <a:xfrm>
                <a:off x="6497640" y="2466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6" name="文本框 21527"/>
              <p:cNvSpPr/>
              <p:nvPr/>
            </p:nvSpPr>
            <p:spPr>
              <a:xfrm>
                <a:off x="6502320" y="2101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37" name="直接连接符 21528"/>
              <p:cNvSpPr/>
              <p:nvPr/>
            </p:nvSpPr>
            <p:spPr>
              <a:xfrm>
                <a:off x="6537240" y="25304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38" name="组合 21529"/>
          <p:cNvGrpSpPr/>
          <p:nvPr/>
        </p:nvGrpSpPr>
        <p:grpSpPr>
          <a:xfrm>
            <a:off x="3763800" y="3390840"/>
            <a:ext cx="979200" cy="824760"/>
            <a:chOff x="3763800" y="3390840"/>
            <a:chExt cx="979200" cy="824760"/>
          </a:xfrm>
        </p:grpSpPr>
        <p:grpSp>
          <p:nvGrpSpPr>
            <p:cNvPr id="2039" name="组合 21530"/>
            <p:cNvGrpSpPr/>
            <p:nvPr/>
          </p:nvGrpSpPr>
          <p:grpSpPr>
            <a:xfrm>
              <a:off x="3763800" y="3390840"/>
              <a:ext cx="365040" cy="824760"/>
              <a:chOff x="3763800" y="3390840"/>
              <a:chExt cx="365040" cy="824760"/>
            </a:xfrm>
          </p:grpSpPr>
          <p:sp>
            <p:nvSpPr>
              <p:cNvPr id="2040" name="文本框 21531"/>
              <p:cNvSpPr/>
              <p:nvPr/>
            </p:nvSpPr>
            <p:spPr>
              <a:xfrm>
                <a:off x="3763800" y="37558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1" name="文本框 21532"/>
              <p:cNvSpPr/>
              <p:nvPr/>
            </p:nvSpPr>
            <p:spPr>
              <a:xfrm>
                <a:off x="3768480" y="33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2" name="直接连接符 21533"/>
              <p:cNvSpPr/>
              <p:nvPr/>
            </p:nvSpPr>
            <p:spPr>
              <a:xfrm>
                <a:off x="3803400" y="38196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43" name="文本框 21534"/>
            <p:cNvSpPr/>
            <p:nvPr/>
          </p:nvSpPr>
          <p:spPr>
            <a:xfrm>
              <a:off x="4038480" y="3606480"/>
              <a:ext cx="70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44" name="组合 21535"/>
          <p:cNvGrpSpPr/>
          <p:nvPr/>
        </p:nvGrpSpPr>
        <p:grpSpPr>
          <a:xfrm>
            <a:off x="5067360" y="3351240"/>
            <a:ext cx="893880" cy="824760"/>
            <a:chOff x="5067360" y="3351240"/>
            <a:chExt cx="893880" cy="824760"/>
          </a:xfrm>
        </p:grpSpPr>
        <p:grpSp>
          <p:nvGrpSpPr>
            <p:cNvPr id="2045" name="组合 21536"/>
            <p:cNvGrpSpPr/>
            <p:nvPr/>
          </p:nvGrpSpPr>
          <p:grpSpPr>
            <a:xfrm>
              <a:off x="5596200" y="3351240"/>
              <a:ext cx="365040" cy="824760"/>
              <a:chOff x="5596200" y="3351240"/>
              <a:chExt cx="365040" cy="824760"/>
            </a:xfrm>
          </p:grpSpPr>
          <p:sp>
            <p:nvSpPr>
              <p:cNvPr id="2046" name="文本框 21537"/>
              <p:cNvSpPr/>
              <p:nvPr/>
            </p:nvSpPr>
            <p:spPr>
              <a:xfrm>
                <a:off x="5596200" y="37162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7" name="文本框 21538"/>
              <p:cNvSpPr/>
              <p:nvPr/>
            </p:nvSpPr>
            <p:spPr>
              <a:xfrm>
                <a:off x="5600880" y="3351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48" name="直接连接符 21539"/>
              <p:cNvSpPr/>
              <p:nvPr/>
            </p:nvSpPr>
            <p:spPr>
              <a:xfrm>
                <a:off x="5635800" y="37800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49" name="文本框 21540"/>
            <p:cNvSpPr/>
            <p:nvPr/>
          </p:nvSpPr>
          <p:spPr>
            <a:xfrm>
              <a:off x="5067360" y="3592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（三）深化理解，总结方法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2" name="Rectangle 2"/>
          <p:cNvSpPr/>
          <p:nvPr/>
        </p:nvSpPr>
        <p:spPr>
          <a:xfrm>
            <a:off x="623880" y="1917720"/>
            <a:ext cx="777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.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3" name="Rectangle 2"/>
          <p:cNvSpPr/>
          <p:nvPr/>
        </p:nvSpPr>
        <p:spPr>
          <a:xfrm>
            <a:off x="704880" y="2570040"/>
            <a:ext cx="712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学生尝试解答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4" name="Text Box 7"/>
          <p:cNvSpPr/>
          <p:nvPr/>
        </p:nvSpPr>
        <p:spPr>
          <a:xfrm>
            <a:off x="782640" y="312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5" name="Text Box 8"/>
          <p:cNvSpPr/>
          <p:nvPr/>
        </p:nvSpPr>
        <p:spPr>
          <a:xfrm>
            <a:off x="2124000" y="34941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6" name="Rectangle 2"/>
          <p:cNvSpPr/>
          <p:nvPr/>
        </p:nvSpPr>
        <p:spPr>
          <a:xfrm>
            <a:off x="768240" y="3565440"/>
            <a:ext cx="626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乘得的积是不是最简分数？应该怎么办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7" name="Text Box 11"/>
          <p:cNvSpPr/>
          <p:nvPr/>
        </p:nvSpPr>
        <p:spPr>
          <a:xfrm>
            <a:off x="784080" y="43005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8" name="Text Box 12"/>
          <p:cNvSpPr/>
          <p:nvPr/>
        </p:nvSpPr>
        <p:spPr>
          <a:xfrm>
            <a:off x="784080" y="550080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9" name="Rectangle 2"/>
          <p:cNvSpPr/>
          <p:nvPr/>
        </p:nvSpPr>
        <p:spPr>
          <a:xfrm>
            <a:off x="782640" y="486900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约分的？有没有不同的约分方法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0" name="Rectangle 2"/>
          <p:cNvSpPr/>
          <p:nvPr/>
        </p:nvSpPr>
        <p:spPr>
          <a:xfrm>
            <a:off x="642960" y="6093000"/>
            <a:ext cx="8569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观察比较以上两种约分的过程有什么不同，你喜欢哪个？说说想法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61" name="组合 22540"/>
          <p:cNvGrpSpPr/>
          <p:nvPr/>
        </p:nvGrpSpPr>
        <p:grpSpPr>
          <a:xfrm>
            <a:off x="1039680" y="1882800"/>
            <a:ext cx="979200" cy="824760"/>
            <a:chOff x="1039680" y="1882800"/>
            <a:chExt cx="979200" cy="824760"/>
          </a:xfrm>
        </p:grpSpPr>
        <p:grpSp>
          <p:nvGrpSpPr>
            <p:cNvPr id="2062" name="组合 22541"/>
            <p:cNvGrpSpPr/>
            <p:nvPr/>
          </p:nvGrpSpPr>
          <p:grpSpPr>
            <a:xfrm>
              <a:off x="1039680" y="1882800"/>
              <a:ext cx="365040" cy="824760"/>
              <a:chOff x="1039680" y="1882800"/>
              <a:chExt cx="365040" cy="824760"/>
            </a:xfrm>
          </p:grpSpPr>
          <p:sp>
            <p:nvSpPr>
              <p:cNvPr id="2063" name="文本框 22542"/>
              <p:cNvSpPr/>
              <p:nvPr/>
            </p:nvSpPr>
            <p:spPr>
              <a:xfrm>
                <a:off x="1039680" y="2247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4" name="文本框 22543"/>
              <p:cNvSpPr/>
              <p:nvPr/>
            </p:nvSpPr>
            <p:spPr>
              <a:xfrm>
                <a:off x="1044360" y="1882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5" name="直接连接符 22544"/>
              <p:cNvSpPr/>
              <p:nvPr/>
            </p:nvSpPr>
            <p:spPr>
              <a:xfrm>
                <a:off x="1079280" y="23115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66" name="文本框 22545"/>
            <p:cNvSpPr/>
            <p:nvPr/>
          </p:nvSpPr>
          <p:spPr>
            <a:xfrm>
              <a:off x="1314360" y="2098440"/>
              <a:ext cx="70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67" name="组合 22546"/>
          <p:cNvGrpSpPr/>
          <p:nvPr/>
        </p:nvGrpSpPr>
        <p:grpSpPr>
          <a:xfrm>
            <a:off x="1814400" y="2859120"/>
            <a:ext cx="2443320" cy="840240"/>
            <a:chOff x="1814400" y="2859120"/>
            <a:chExt cx="2443320" cy="840240"/>
          </a:xfrm>
        </p:grpSpPr>
        <p:grpSp>
          <p:nvGrpSpPr>
            <p:cNvPr id="2068" name="组合 22547"/>
            <p:cNvGrpSpPr/>
            <p:nvPr/>
          </p:nvGrpSpPr>
          <p:grpSpPr>
            <a:xfrm>
              <a:off x="1814400" y="2874600"/>
              <a:ext cx="365040" cy="824760"/>
              <a:chOff x="1814400" y="2874600"/>
              <a:chExt cx="365040" cy="824760"/>
            </a:xfrm>
          </p:grpSpPr>
          <p:sp>
            <p:nvSpPr>
              <p:cNvPr id="2069" name="文本框 22548"/>
              <p:cNvSpPr/>
              <p:nvPr/>
            </p:nvSpPr>
            <p:spPr>
              <a:xfrm>
                <a:off x="1814400" y="3239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0" name="文本框 22549"/>
              <p:cNvSpPr/>
              <p:nvPr/>
            </p:nvSpPr>
            <p:spPr>
              <a:xfrm>
                <a:off x="1819080" y="2874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1" name="直接连接符 22550"/>
              <p:cNvSpPr/>
              <p:nvPr/>
            </p:nvSpPr>
            <p:spPr>
              <a:xfrm>
                <a:off x="1854000" y="33033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072" name="文本框 22551"/>
            <p:cNvSpPr/>
            <p:nvPr/>
          </p:nvSpPr>
          <p:spPr>
            <a:xfrm>
              <a:off x="2079720" y="3090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3" name="文本框 22552"/>
            <p:cNvSpPr/>
            <p:nvPr/>
          </p:nvSpPr>
          <p:spPr>
            <a:xfrm>
              <a:off x="3101760" y="323028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4" name="文本框 22553"/>
            <p:cNvSpPr/>
            <p:nvPr/>
          </p:nvSpPr>
          <p:spPr>
            <a:xfrm>
              <a:off x="2889360" y="286524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5" name="直接连接符 22554"/>
            <p:cNvSpPr/>
            <p:nvPr/>
          </p:nvSpPr>
          <p:spPr>
            <a:xfrm>
              <a:off x="2924280" y="32940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6" name="矩形 22555"/>
            <p:cNvSpPr/>
            <p:nvPr/>
          </p:nvSpPr>
          <p:spPr>
            <a:xfrm>
              <a:off x="3558600" y="3081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77" name="组合 22556"/>
            <p:cNvGrpSpPr/>
            <p:nvPr/>
          </p:nvGrpSpPr>
          <p:grpSpPr>
            <a:xfrm>
              <a:off x="3892680" y="2859120"/>
              <a:ext cx="365040" cy="824760"/>
              <a:chOff x="3892680" y="2859120"/>
              <a:chExt cx="365040" cy="824760"/>
            </a:xfrm>
          </p:grpSpPr>
          <p:sp>
            <p:nvSpPr>
              <p:cNvPr id="2078" name="文本框 22557"/>
              <p:cNvSpPr/>
              <p:nvPr/>
            </p:nvSpPr>
            <p:spPr>
              <a:xfrm>
                <a:off x="3892680" y="3224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9" name="文本框 22558"/>
              <p:cNvSpPr/>
              <p:nvPr/>
            </p:nvSpPr>
            <p:spPr>
              <a:xfrm>
                <a:off x="3897360" y="2859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80" name="直接连接符 22559"/>
              <p:cNvSpPr/>
              <p:nvPr/>
            </p:nvSpPr>
            <p:spPr>
              <a:xfrm>
                <a:off x="3932280" y="328788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81" name="组合 22560"/>
          <p:cNvGrpSpPr/>
          <p:nvPr/>
        </p:nvGrpSpPr>
        <p:grpSpPr>
          <a:xfrm>
            <a:off x="1773360" y="3857760"/>
            <a:ext cx="3081240" cy="1247760"/>
            <a:chOff x="1773360" y="3857760"/>
            <a:chExt cx="3081240" cy="1247760"/>
          </a:xfrm>
        </p:grpSpPr>
        <p:grpSp>
          <p:nvGrpSpPr>
            <p:cNvPr id="2082" name="组合 22561"/>
            <p:cNvGrpSpPr/>
            <p:nvPr/>
          </p:nvGrpSpPr>
          <p:grpSpPr>
            <a:xfrm>
              <a:off x="1773360" y="3857760"/>
              <a:ext cx="3081240" cy="1247760"/>
              <a:chOff x="1773360" y="3857760"/>
              <a:chExt cx="3081240" cy="1247760"/>
            </a:xfrm>
          </p:grpSpPr>
          <p:grpSp>
            <p:nvGrpSpPr>
              <p:cNvPr id="2083" name="组合 22562"/>
              <p:cNvGrpSpPr/>
              <p:nvPr/>
            </p:nvGrpSpPr>
            <p:grpSpPr>
              <a:xfrm>
                <a:off x="1773360" y="4059000"/>
                <a:ext cx="2443320" cy="839880"/>
                <a:chOff x="1773360" y="4059000"/>
                <a:chExt cx="2443320" cy="839880"/>
              </a:xfrm>
            </p:grpSpPr>
            <p:grpSp>
              <p:nvGrpSpPr>
                <p:cNvPr id="2084" name="组合 22563"/>
                <p:cNvGrpSpPr/>
                <p:nvPr/>
              </p:nvGrpSpPr>
              <p:grpSpPr>
                <a:xfrm>
                  <a:off x="1773360" y="4074480"/>
                  <a:ext cx="365040" cy="824400"/>
                  <a:chOff x="1773360" y="4074480"/>
                  <a:chExt cx="365040" cy="824400"/>
                </a:xfrm>
              </p:grpSpPr>
              <p:sp>
                <p:nvSpPr>
                  <p:cNvPr id="2085" name="文本框 22564"/>
                  <p:cNvSpPr/>
                  <p:nvPr/>
                </p:nvSpPr>
                <p:spPr>
                  <a:xfrm>
                    <a:off x="1773360" y="443916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86" name="文本框 22565"/>
                  <p:cNvSpPr/>
                  <p:nvPr/>
                </p:nvSpPr>
                <p:spPr>
                  <a:xfrm>
                    <a:off x="1778040" y="40744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87" name="直接连接符 22566"/>
                  <p:cNvSpPr/>
                  <p:nvPr/>
                </p:nvSpPr>
                <p:spPr>
                  <a:xfrm>
                    <a:off x="1812960" y="450288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088" name="文本框 22567"/>
                <p:cNvSpPr/>
                <p:nvPr/>
              </p:nvSpPr>
              <p:spPr>
                <a:xfrm>
                  <a:off x="2038680" y="4290480"/>
                  <a:ext cx="1093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</a:rPr>
                    <a:t>×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＝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89" name="文本框 22568"/>
                <p:cNvSpPr/>
                <p:nvPr/>
              </p:nvSpPr>
              <p:spPr>
                <a:xfrm>
                  <a:off x="3060720" y="4430160"/>
                  <a:ext cx="28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90" name="文本框 22569"/>
                <p:cNvSpPr/>
                <p:nvPr/>
              </p:nvSpPr>
              <p:spPr>
                <a:xfrm>
                  <a:off x="2848320" y="406512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×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91" name="直接连接符 22570"/>
                <p:cNvSpPr/>
                <p:nvPr/>
              </p:nvSpPr>
              <p:spPr>
                <a:xfrm>
                  <a:off x="2883240" y="4493520"/>
                  <a:ext cx="609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92" name="矩形 22571"/>
                <p:cNvSpPr/>
                <p:nvPr/>
              </p:nvSpPr>
              <p:spPr>
                <a:xfrm>
                  <a:off x="3517560" y="428112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＝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grpSp>
              <p:nvGrpSpPr>
                <p:cNvPr id="2093" name="组合 22572"/>
                <p:cNvGrpSpPr/>
                <p:nvPr/>
              </p:nvGrpSpPr>
              <p:grpSpPr>
                <a:xfrm>
                  <a:off x="3851640" y="4059000"/>
                  <a:ext cx="365040" cy="824400"/>
                  <a:chOff x="3851640" y="4059000"/>
                  <a:chExt cx="365040" cy="824400"/>
                </a:xfrm>
              </p:grpSpPr>
              <p:sp>
                <p:nvSpPr>
                  <p:cNvPr id="2094" name="文本框 22573"/>
                  <p:cNvSpPr/>
                  <p:nvPr/>
                </p:nvSpPr>
                <p:spPr>
                  <a:xfrm>
                    <a:off x="3851640" y="4423680"/>
                    <a:ext cx="28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9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95" name="文本框 22574"/>
                  <p:cNvSpPr/>
                  <p:nvPr/>
                </p:nvSpPr>
                <p:spPr>
                  <a:xfrm>
                    <a:off x="3856320" y="40590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96" name="直接连接符 22575"/>
                  <p:cNvSpPr/>
                  <p:nvPr/>
                </p:nvSpPr>
                <p:spPr>
                  <a:xfrm>
                    <a:off x="3891240" y="4487400"/>
                    <a:ext cx="252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</p:grpSp>
          <p:sp>
            <p:nvSpPr>
              <p:cNvPr id="2097" name="直接连接符 22576"/>
              <p:cNvSpPr/>
              <p:nvPr/>
            </p:nvSpPr>
            <p:spPr>
              <a:xfrm>
                <a:off x="3870360" y="4582800"/>
                <a:ext cx="287280" cy="1425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98" name="文本框 22577"/>
              <p:cNvSpPr/>
              <p:nvPr/>
            </p:nvSpPr>
            <p:spPr>
              <a:xfrm>
                <a:off x="3856320" y="3857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99" name="文本框 22578"/>
              <p:cNvSpPr/>
              <p:nvPr/>
            </p:nvSpPr>
            <p:spPr>
              <a:xfrm>
                <a:off x="3861000" y="47066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0" name="文本框 22579"/>
              <p:cNvSpPr/>
              <p:nvPr/>
            </p:nvSpPr>
            <p:spPr>
              <a:xfrm>
                <a:off x="4102200" y="4251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01" name="组合 22580"/>
              <p:cNvGrpSpPr/>
              <p:nvPr/>
            </p:nvGrpSpPr>
            <p:grpSpPr>
              <a:xfrm>
                <a:off x="4489560" y="4039920"/>
                <a:ext cx="365040" cy="824400"/>
                <a:chOff x="4489560" y="4039920"/>
                <a:chExt cx="365040" cy="824400"/>
              </a:xfrm>
            </p:grpSpPr>
            <p:sp>
              <p:nvSpPr>
                <p:cNvPr id="2102" name="文本框 22581"/>
                <p:cNvSpPr/>
                <p:nvPr/>
              </p:nvSpPr>
              <p:spPr>
                <a:xfrm>
                  <a:off x="4489560" y="4404600"/>
                  <a:ext cx="28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03" name="文本框 22582"/>
                <p:cNvSpPr/>
                <p:nvPr/>
              </p:nvSpPr>
              <p:spPr>
                <a:xfrm>
                  <a:off x="4494240" y="40399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04" name="直接连接符 22583"/>
                <p:cNvSpPr/>
                <p:nvPr/>
              </p:nvSpPr>
              <p:spPr>
                <a:xfrm>
                  <a:off x="4529160" y="446832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sp>
          <p:nvSpPr>
            <p:cNvPr id="2105" name="直接连接符 22584"/>
            <p:cNvSpPr/>
            <p:nvPr/>
          </p:nvSpPr>
          <p:spPr>
            <a:xfrm>
              <a:off x="3861000" y="4222440"/>
              <a:ext cx="287280" cy="142560"/>
            </a:xfrm>
            <a:prstGeom prst="line">
              <a:avLst/>
            </a:prstGeom>
            <a:ln w="1908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06" name="组合 22585"/>
          <p:cNvGrpSpPr/>
          <p:nvPr/>
        </p:nvGrpSpPr>
        <p:grpSpPr>
          <a:xfrm>
            <a:off x="1968480" y="5230800"/>
            <a:ext cx="2568240" cy="1100520"/>
            <a:chOff x="1968480" y="5230800"/>
            <a:chExt cx="2568240" cy="1100520"/>
          </a:xfrm>
        </p:grpSpPr>
        <p:grpSp>
          <p:nvGrpSpPr>
            <p:cNvPr id="2107" name="组合 22586"/>
            <p:cNvGrpSpPr/>
            <p:nvPr/>
          </p:nvGrpSpPr>
          <p:grpSpPr>
            <a:xfrm>
              <a:off x="4171680" y="5248440"/>
              <a:ext cx="365040" cy="824760"/>
              <a:chOff x="4171680" y="5248440"/>
              <a:chExt cx="365040" cy="824760"/>
            </a:xfrm>
          </p:grpSpPr>
          <p:sp>
            <p:nvSpPr>
              <p:cNvPr id="2108" name="文本框 22587"/>
              <p:cNvSpPr/>
              <p:nvPr/>
            </p:nvSpPr>
            <p:spPr>
              <a:xfrm>
                <a:off x="4171680" y="5613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09" name="文本框 22588"/>
              <p:cNvSpPr/>
              <p:nvPr/>
            </p:nvSpPr>
            <p:spPr>
              <a:xfrm>
                <a:off x="4176360" y="5248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0" name="直接连接符 22589"/>
              <p:cNvSpPr/>
              <p:nvPr/>
            </p:nvSpPr>
            <p:spPr>
              <a:xfrm>
                <a:off x="4211280" y="567720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11" name="组合 22590"/>
            <p:cNvGrpSpPr/>
            <p:nvPr/>
          </p:nvGrpSpPr>
          <p:grpSpPr>
            <a:xfrm>
              <a:off x="1968480" y="5230800"/>
              <a:ext cx="2303280" cy="1100520"/>
              <a:chOff x="1968480" y="5230800"/>
              <a:chExt cx="2303280" cy="1100520"/>
            </a:xfrm>
          </p:grpSpPr>
          <p:sp>
            <p:nvSpPr>
              <p:cNvPr id="2112" name="文本框 22591"/>
              <p:cNvSpPr/>
              <p:nvPr/>
            </p:nvSpPr>
            <p:spPr>
              <a:xfrm>
                <a:off x="3066840" y="5932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13" name="组合 22592"/>
              <p:cNvGrpSpPr/>
              <p:nvPr/>
            </p:nvGrpSpPr>
            <p:grpSpPr>
              <a:xfrm>
                <a:off x="1968480" y="5230800"/>
                <a:ext cx="2303280" cy="855000"/>
                <a:chOff x="1968480" y="5230800"/>
                <a:chExt cx="2303280" cy="855000"/>
              </a:xfrm>
            </p:grpSpPr>
            <p:grpSp>
              <p:nvGrpSpPr>
                <p:cNvPr id="2114" name="组合 22593"/>
                <p:cNvGrpSpPr/>
                <p:nvPr/>
              </p:nvGrpSpPr>
              <p:grpSpPr>
                <a:xfrm>
                  <a:off x="1968480" y="5259600"/>
                  <a:ext cx="2303280" cy="826200"/>
                  <a:chOff x="1968480" y="5259600"/>
                  <a:chExt cx="2303280" cy="826200"/>
                </a:xfrm>
              </p:grpSpPr>
              <p:grpSp>
                <p:nvGrpSpPr>
                  <p:cNvPr id="2115" name="组合 22594"/>
                  <p:cNvGrpSpPr/>
                  <p:nvPr/>
                </p:nvGrpSpPr>
                <p:grpSpPr>
                  <a:xfrm>
                    <a:off x="1968480" y="5261040"/>
                    <a:ext cx="365040" cy="824760"/>
                    <a:chOff x="1968480" y="5261040"/>
                    <a:chExt cx="365040" cy="824760"/>
                  </a:xfrm>
                </p:grpSpPr>
                <p:sp>
                  <p:nvSpPr>
                    <p:cNvPr id="2116" name="文本框 22595"/>
                    <p:cNvSpPr/>
                    <p:nvPr/>
                  </p:nvSpPr>
                  <p:spPr>
                    <a:xfrm>
                      <a:off x="1968480" y="562608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17" name="文本框 22596"/>
                    <p:cNvSpPr/>
                    <p:nvPr/>
                  </p:nvSpPr>
                  <p:spPr>
                    <a:xfrm>
                      <a:off x="1973160" y="526104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18" name="直接连接符 22597"/>
                    <p:cNvSpPr/>
                    <p:nvPr/>
                  </p:nvSpPr>
                  <p:spPr>
                    <a:xfrm>
                      <a:off x="2008080" y="5689800"/>
                      <a:ext cx="2527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119" name="文本框 22598"/>
                  <p:cNvSpPr/>
                  <p:nvPr/>
                </p:nvSpPr>
                <p:spPr>
                  <a:xfrm>
                    <a:off x="2233440" y="5477040"/>
                    <a:ext cx="10936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2120" name="组合 22599"/>
                  <p:cNvGrpSpPr/>
                  <p:nvPr/>
                </p:nvGrpSpPr>
                <p:grpSpPr>
                  <a:xfrm>
                    <a:off x="3057480" y="5259600"/>
                    <a:ext cx="365040" cy="824760"/>
                    <a:chOff x="3057480" y="5259600"/>
                    <a:chExt cx="365040" cy="824760"/>
                  </a:xfrm>
                </p:grpSpPr>
                <p:sp>
                  <p:nvSpPr>
                    <p:cNvPr id="2121" name="文本框 22600"/>
                    <p:cNvSpPr/>
                    <p:nvPr/>
                  </p:nvSpPr>
                  <p:spPr>
                    <a:xfrm>
                      <a:off x="3057480" y="5624640"/>
                      <a:ext cx="28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22" name="文本框 22601"/>
                    <p:cNvSpPr/>
                    <p:nvPr/>
                  </p:nvSpPr>
                  <p:spPr>
                    <a:xfrm>
                      <a:off x="3062160" y="525960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123" name="直接连接符 22602"/>
                    <p:cNvSpPr/>
                    <p:nvPr/>
                  </p:nvSpPr>
                  <p:spPr>
                    <a:xfrm>
                      <a:off x="3097080" y="5688360"/>
                      <a:ext cx="2527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124" name="文本框 22603"/>
                  <p:cNvSpPr/>
                  <p:nvPr/>
                </p:nvSpPr>
                <p:spPr>
                  <a:xfrm>
                    <a:off x="3336840" y="5475240"/>
                    <a:ext cx="934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 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＝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125" name="直接连接符 22604"/>
                <p:cNvSpPr/>
                <p:nvPr/>
              </p:nvSpPr>
              <p:spPr>
                <a:xfrm>
                  <a:off x="3101760" y="5797440"/>
                  <a:ext cx="287280" cy="14292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26" name="直接连接符 22605"/>
                <p:cNvSpPr/>
                <p:nvPr/>
              </p:nvSpPr>
              <p:spPr>
                <a:xfrm>
                  <a:off x="3624120" y="5600880"/>
                  <a:ext cx="287280" cy="14292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27" name="文本框 22606"/>
                <p:cNvSpPr/>
                <p:nvPr/>
              </p:nvSpPr>
              <p:spPr>
                <a:xfrm>
                  <a:off x="3595680" y="52308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2"/>
          <p:cNvSpPr/>
          <p:nvPr/>
        </p:nvSpPr>
        <p:spPr>
          <a:xfrm>
            <a:off x="531720" y="43560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9" name="Rectangle 2"/>
          <p:cNvSpPr/>
          <p:nvPr/>
        </p:nvSpPr>
        <p:spPr>
          <a:xfrm>
            <a:off x="1324080" y="4788000"/>
            <a:ext cx="734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决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袋重多少千克”这个问题，请你列出算式并计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1" name="Text Box 6"/>
          <p:cNvSpPr/>
          <p:nvPr/>
        </p:nvSpPr>
        <p:spPr>
          <a:xfrm>
            <a:off x="1981080" y="159696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袋面包重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2" name="Text Box 11"/>
          <p:cNvSpPr/>
          <p:nvPr/>
        </p:nvSpPr>
        <p:spPr>
          <a:xfrm>
            <a:off x="2593800" y="39337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袋重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3" name="Rectangle 2"/>
          <p:cNvSpPr/>
          <p:nvPr/>
        </p:nvSpPr>
        <p:spPr>
          <a:xfrm>
            <a:off x="539640" y="6122880"/>
            <a:ext cx="860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结：观察上面两道题的计算过程，说说分数与整数相乘是怎样计算的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34" name="组合 23559"/>
          <p:cNvGrpSpPr/>
          <p:nvPr/>
        </p:nvGrpSpPr>
        <p:grpSpPr>
          <a:xfrm>
            <a:off x="3376440" y="1379520"/>
            <a:ext cx="504720" cy="815400"/>
            <a:chOff x="3376440" y="1379520"/>
            <a:chExt cx="504720" cy="815400"/>
          </a:xfrm>
        </p:grpSpPr>
        <p:sp>
          <p:nvSpPr>
            <p:cNvPr id="2135" name="文本框 23560"/>
            <p:cNvSpPr/>
            <p:nvPr/>
          </p:nvSpPr>
          <p:spPr>
            <a:xfrm>
              <a:off x="3376440" y="1735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6" name="文本框 23561"/>
            <p:cNvSpPr/>
            <p:nvPr/>
          </p:nvSpPr>
          <p:spPr>
            <a:xfrm>
              <a:off x="3447720" y="1379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7" name="直接连接符 23562"/>
            <p:cNvSpPr/>
            <p:nvPr/>
          </p:nvSpPr>
          <p:spPr>
            <a:xfrm>
              <a:off x="3425760" y="1798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138" name="图片 23563" descr="04"/>
          <p:cNvPicPr/>
          <p:nvPr/>
        </p:nvPicPr>
        <p:blipFill>
          <a:blip r:embed="rId1"/>
          <a:stretch/>
        </p:blipFill>
        <p:spPr>
          <a:xfrm>
            <a:off x="1119240" y="2176560"/>
            <a:ext cx="4189320" cy="1800000"/>
          </a:xfrm>
          <a:prstGeom prst="rect">
            <a:avLst/>
          </a:prstGeom>
          <a:ln w="0">
            <a:noFill/>
          </a:ln>
        </p:spPr>
      </p:pic>
      <p:sp>
        <p:nvSpPr>
          <p:cNvPr id="2139" name="文本框 23564"/>
          <p:cNvSpPr/>
          <p:nvPr/>
        </p:nvSpPr>
        <p:spPr>
          <a:xfrm>
            <a:off x="7236000" y="2881440"/>
            <a:ext cx="93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40" name="组合 23565"/>
          <p:cNvGrpSpPr/>
          <p:nvPr/>
        </p:nvGrpSpPr>
        <p:grpSpPr>
          <a:xfrm>
            <a:off x="1563840" y="5262480"/>
            <a:ext cx="2604960" cy="815400"/>
            <a:chOff x="1563840" y="5262480"/>
            <a:chExt cx="2604960" cy="815400"/>
          </a:xfrm>
        </p:grpSpPr>
        <p:sp>
          <p:nvSpPr>
            <p:cNvPr id="2141" name="Rectangle 2"/>
            <p:cNvSpPr/>
            <p:nvPr/>
          </p:nvSpPr>
          <p:spPr>
            <a:xfrm>
              <a:off x="1563840" y="5435640"/>
              <a:ext cx="1158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42" name="组合 23567"/>
            <p:cNvGrpSpPr/>
            <p:nvPr/>
          </p:nvGrpSpPr>
          <p:grpSpPr>
            <a:xfrm>
              <a:off x="2502000" y="5262480"/>
              <a:ext cx="1666800" cy="815400"/>
              <a:chOff x="2502000" y="5262480"/>
              <a:chExt cx="1666800" cy="815400"/>
            </a:xfrm>
          </p:grpSpPr>
          <p:sp>
            <p:nvSpPr>
              <p:cNvPr id="2143" name="文本框 23568"/>
              <p:cNvSpPr/>
              <p:nvPr/>
            </p:nvSpPr>
            <p:spPr>
              <a:xfrm>
                <a:off x="2862360" y="5479920"/>
                <a:ext cx="109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44" name="组合 23569"/>
              <p:cNvGrpSpPr/>
              <p:nvPr/>
            </p:nvGrpSpPr>
            <p:grpSpPr>
              <a:xfrm>
                <a:off x="2502000" y="5262480"/>
                <a:ext cx="504720" cy="815400"/>
                <a:chOff x="2502000" y="5262480"/>
                <a:chExt cx="504720" cy="815400"/>
              </a:xfrm>
            </p:grpSpPr>
            <p:sp>
              <p:nvSpPr>
                <p:cNvPr id="2145" name="文本框 23570"/>
                <p:cNvSpPr/>
                <p:nvPr/>
              </p:nvSpPr>
              <p:spPr>
                <a:xfrm>
                  <a:off x="2502000" y="5618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46" name="文本框 23571"/>
                <p:cNvSpPr/>
                <p:nvPr/>
              </p:nvSpPr>
              <p:spPr>
                <a:xfrm>
                  <a:off x="2573280" y="5262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47" name="直接连接符 23572"/>
                <p:cNvSpPr/>
                <p:nvPr/>
              </p:nvSpPr>
              <p:spPr>
                <a:xfrm>
                  <a:off x="2551320" y="5681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148" name="组合 23573"/>
              <p:cNvGrpSpPr/>
              <p:nvPr/>
            </p:nvGrpSpPr>
            <p:grpSpPr>
              <a:xfrm>
                <a:off x="3664080" y="5262480"/>
                <a:ext cx="504720" cy="815400"/>
                <a:chOff x="3664080" y="5262480"/>
                <a:chExt cx="504720" cy="815400"/>
              </a:xfrm>
            </p:grpSpPr>
            <p:sp>
              <p:nvSpPr>
                <p:cNvPr id="2149" name="文本框 23574"/>
                <p:cNvSpPr/>
                <p:nvPr/>
              </p:nvSpPr>
              <p:spPr>
                <a:xfrm>
                  <a:off x="3664080" y="5618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0" name="文本框 23575"/>
                <p:cNvSpPr/>
                <p:nvPr/>
              </p:nvSpPr>
              <p:spPr>
                <a:xfrm>
                  <a:off x="3735360" y="5262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1" name="直接连接符 23576"/>
                <p:cNvSpPr/>
                <p:nvPr/>
              </p:nvSpPr>
              <p:spPr>
                <a:xfrm>
                  <a:off x="3713400" y="5681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152" name="组合 23577"/>
          <p:cNvGrpSpPr/>
          <p:nvPr/>
        </p:nvGrpSpPr>
        <p:grpSpPr>
          <a:xfrm>
            <a:off x="4402080" y="5208480"/>
            <a:ext cx="2719440" cy="815040"/>
            <a:chOff x="4402080" y="5208480"/>
            <a:chExt cx="2719440" cy="815040"/>
          </a:xfrm>
        </p:grpSpPr>
        <p:sp>
          <p:nvSpPr>
            <p:cNvPr id="2153" name="Rectangle 2"/>
            <p:cNvSpPr/>
            <p:nvPr/>
          </p:nvSpPr>
          <p:spPr>
            <a:xfrm>
              <a:off x="4402080" y="5435640"/>
              <a:ext cx="1231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54" name="组合 23579"/>
            <p:cNvGrpSpPr/>
            <p:nvPr/>
          </p:nvGrpSpPr>
          <p:grpSpPr>
            <a:xfrm>
              <a:off x="5276880" y="5208480"/>
              <a:ext cx="1844640" cy="815040"/>
              <a:chOff x="5276880" y="5208480"/>
              <a:chExt cx="1844640" cy="815040"/>
            </a:xfrm>
          </p:grpSpPr>
          <p:sp>
            <p:nvSpPr>
              <p:cNvPr id="2155" name="文本框 23580"/>
              <p:cNvSpPr/>
              <p:nvPr/>
            </p:nvSpPr>
            <p:spPr>
              <a:xfrm>
                <a:off x="5276880" y="5445000"/>
                <a:ext cx="7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56" name="组合 23581"/>
              <p:cNvGrpSpPr/>
              <p:nvPr/>
            </p:nvGrpSpPr>
            <p:grpSpPr>
              <a:xfrm>
                <a:off x="5869080" y="5208480"/>
                <a:ext cx="504720" cy="815040"/>
                <a:chOff x="5869080" y="5208480"/>
                <a:chExt cx="504720" cy="815040"/>
              </a:xfrm>
            </p:grpSpPr>
            <p:sp>
              <p:nvSpPr>
                <p:cNvPr id="2157" name="文本框 23582"/>
                <p:cNvSpPr/>
                <p:nvPr/>
              </p:nvSpPr>
              <p:spPr>
                <a:xfrm>
                  <a:off x="5869080" y="55638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8" name="文本框 23583"/>
                <p:cNvSpPr/>
                <p:nvPr/>
              </p:nvSpPr>
              <p:spPr>
                <a:xfrm>
                  <a:off x="5940360" y="520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9" name="直接连接符 23584"/>
                <p:cNvSpPr/>
                <p:nvPr/>
              </p:nvSpPr>
              <p:spPr>
                <a:xfrm>
                  <a:off x="5918400" y="562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160" name="组合 23585"/>
              <p:cNvGrpSpPr/>
              <p:nvPr/>
            </p:nvGrpSpPr>
            <p:grpSpPr>
              <a:xfrm>
                <a:off x="6616800" y="5208480"/>
                <a:ext cx="504720" cy="815040"/>
                <a:chOff x="6616800" y="5208480"/>
                <a:chExt cx="504720" cy="815040"/>
              </a:xfrm>
            </p:grpSpPr>
            <p:sp>
              <p:nvSpPr>
                <p:cNvPr id="2161" name="文本框 23586"/>
                <p:cNvSpPr/>
                <p:nvPr/>
              </p:nvSpPr>
              <p:spPr>
                <a:xfrm>
                  <a:off x="6616800" y="55638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62" name="文本框 23587"/>
                <p:cNvSpPr/>
                <p:nvPr/>
              </p:nvSpPr>
              <p:spPr>
                <a:xfrm>
                  <a:off x="6688080" y="52084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63" name="直接连接符 23588"/>
                <p:cNvSpPr/>
                <p:nvPr/>
              </p:nvSpPr>
              <p:spPr>
                <a:xfrm>
                  <a:off x="6666120" y="5627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64" name="文本框 23589"/>
              <p:cNvSpPr/>
              <p:nvPr/>
            </p:nvSpPr>
            <p:spPr>
              <a:xfrm>
                <a:off x="6234120" y="5425920"/>
                <a:ext cx="57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三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6" name="Rectangle 2"/>
          <p:cNvSpPr/>
          <p:nvPr/>
        </p:nvSpPr>
        <p:spPr>
          <a:xfrm>
            <a:off x="826920" y="143676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宋体"/>
              </a:rPr>
              <a:t>直接说出得数。</a:t>
            </a:r>
            <a:endParaRPr b="1" lang="en-US" sz="3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7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直接说出得数，并说说你是怎样想的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8" name="Text Box 55"/>
          <p:cNvSpPr/>
          <p:nvPr/>
        </p:nvSpPr>
        <p:spPr>
          <a:xfrm flipV="1" rot="10800000">
            <a:off x="2438280" y="384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69" name="组合 24581"/>
          <p:cNvGrpSpPr/>
          <p:nvPr/>
        </p:nvGrpSpPr>
        <p:grpSpPr>
          <a:xfrm>
            <a:off x="1609560" y="2124000"/>
            <a:ext cx="1454400" cy="815400"/>
            <a:chOff x="1609560" y="2124000"/>
            <a:chExt cx="1454400" cy="815400"/>
          </a:xfrm>
        </p:grpSpPr>
        <p:sp>
          <p:nvSpPr>
            <p:cNvPr id="2170" name="文本框 24582"/>
            <p:cNvSpPr/>
            <p:nvPr/>
          </p:nvSpPr>
          <p:spPr>
            <a:xfrm>
              <a:off x="1969920" y="2341440"/>
              <a:ext cx="109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71" name="组合 24583"/>
            <p:cNvGrpSpPr/>
            <p:nvPr/>
          </p:nvGrpSpPr>
          <p:grpSpPr>
            <a:xfrm>
              <a:off x="1609560" y="2124000"/>
              <a:ext cx="504720" cy="815400"/>
              <a:chOff x="1609560" y="2124000"/>
              <a:chExt cx="504720" cy="815400"/>
            </a:xfrm>
          </p:grpSpPr>
          <p:sp>
            <p:nvSpPr>
              <p:cNvPr id="2172" name="文本框 24584"/>
              <p:cNvSpPr/>
              <p:nvPr/>
            </p:nvSpPr>
            <p:spPr>
              <a:xfrm>
                <a:off x="1609560" y="2479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3" name="文本框 24585"/>
              <p:cNvSpPr/>
              <p:nvPr/>
            </p:nvSpPr>
            <p:spPr>
              <a:xfrm>
                <a:off x="1680840" y="2124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4" name="直接连接符 24586"/>
              <p:cNvSpPr/>
              <p:nvPr/>
            </p:nvSpPr>
            <p:spPr>
              <a:xfrm>
                <a:off x="1658880" y="2543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75" name="组合 24587"/>
          <p:cNvGrpSpPr/>
          <p:nvPr/>
        </p:nvGrpSpPr>
        <p:grpSpPr>
          <a:xfrm>
            <a:off x="3949560" y="2120760"/>
            <a:ext cx="1454400" cy="815400"/>
            <a:chOff x="3949560" y="2120760"/>
            <a:chExt cx="1454400" cy="815400"/>
          </a:xfrm>
        </p:grpSpPr>
        <p:sp>
          <p:nvSpPr>
            <p:cNvPr id="2176" name="文本框 24588"/>
            <p:cNvSpPr/>
            <p:nvPr/>
          </p:nvSpPr>
          <p:spPr>
            <a:xfrm>
              <a:off x="4309920" y="2338200"/>
              <a:ext cx="109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77" name="组合 24589"/>
            <p:cNvGrpSpPr/>
            <p:nvPr/>
          </p:nvGrpSpPr>
          <p:grpSpPr>
            <a:xfrm>
              <a:off x="3949560" y="2120760"/>
              <a:ext cx="504720" cy="815400"/>
              <a:chOff x="3949560" y="2120760"/>
              <a:chExt cx="504720" cy="815400"/>
            </a:xfrm>
          </p:grpSpPr>
          <p:sp>
            <p:nvSpPr>
              <p:cNvPr id="2178" name="文本框 24590"/>
              <p:cNvSpPr/>
              <p:nvPr/>
            </p:nvSpPr>
            <p:spPr>
              <a:xfrm>
                <a:off x="3949560" y="2476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79" name="文本框 24591"/>
              <p:cNvSpPr/>
              <p:nvPr/>
            </p:nvSpPr>
            <p:spPr>
              <a:xfrm>
                <a:off x="4020840" y="2120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80" name="直接连接符 24592"/>
              <p:cNvSpPr/>
              <p:nvPr/>
            </p:nvSpPr>
            <p:spPr>
              <a:xfrm>
                <a:off x="3998880" y="2540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81" name="组合 24593"/>
          <p:cNvGrpSpPr/>
          <p:nvPr/>
        </p:nvGrpSpPr>
        <p:grpSpPr>
          <a:xfrm>
            <a:off x="6256440" y="3592440"/>
            <a:ext cx="1396800" cy="815040"/>
            <a:chOff x="6256440" y="3592440"/>
            <a:chExt cx="1396800" cy="815040"/>
          </a:xfrm>
        </p:grpSpPr>
        <p:sp>
          <p:nvSpPr>
            <p:cNvPr id="2182" name="文本框 24594"/>
            <p:cNvSpPr/>
            <p:nvPr/>
          </p:nvSpPr>
          <p:spPr>
            <a:xfrm>
              <a:off x="6559560" y="380988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3" name="文本框 24595"/>
            <p:cNvSpPr/>
            <p:nvPr/>
          </p:nvSpPr>
          <p:spPr>
            <a:xfrm>
              <a:off x="6256440" y="3947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4" name="文本框 24596"/>
            <p:cNvSpPr/>
            <p:nvPr/>
          </p:nvSpPr>
          <p:spPr>
            <a:xfrm>
              <a:off x="6270480" y="3592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5" name="直接连接符 24597"/>
            <p:cNvSpPr/>
            <p:nvPr/>
          </p:nvSpPr>
          <p:spPr>
            <a:xfrm>
              <a:off x="6276960" y="40114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86" name="组合 24598"/>
          <p:cNvGrpSpPr/>
          <p:nvPr/>
        </p:nvGrpSpPr>
        <p:grpSpPr>
          <a:xfrm>
            <a:off x="4044960" y="3606840"/>
            <a:ext cx="1396800" cy="815040"/>
            <a:chOff x="4044960" y="3606840"/>
            <a:chExt cx="1396800" cy="815040"/>
          </a:xfrm>
        </p:grpSpPr>
        <p:sp>
          <p:nvSpPr>
            <p:cNvPr id="2187" name="文本框 24599"/>
            <p:cNvSpPr/>
            <p:nvPr/>
          </p:nvSpPr>
          <p:spPr>
            <a:xfrm>
              <a:off x="4348080" y="382428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8" name="文本框 24600"/>
            <p:cNvSpPr/>
            <p:nvPr/>
          </p:nvSpPr>
          <p:spPr>
            <a:xfrm>
              <a:off x="4044960" y="3962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9" name="文本框 24601"/>
            <p:cNvSpPr/>
            <p:nvPr/>
          </p:nvSpPr>
          <p:spPr>
            <a:xfrm>
              <a:off x="4059000" y="3606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0" name="直接连接符 24602"/>
            <p:cNvSpPr/>
            <p:nvPr/>
          </p:nvSpPr>
          <p:spPr>
            <a:xfrm>
              <a:off x="4065480" y="40258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1" name="组合 24603"/>
          <p:cNvGrpSpPr/>
          <p:nvPr/>
        </p:nvGrpSpPr>
        <p:grpSpPr>
          <a:xfrm>
            <a:off x="1706400" y="3611520"/>
            <a:ext cx="1396800" cy="815040"/>
            <a:chOff x="1706400" y="3611520"/>
            <a:chExt cx="1396800" cy="815040"/>
          </a:xfrm>
        </p:grpSpPr>
        <p:sp>
          <p:nvSpPr>
            <p:cNvPr id="2192" name="文本框 24604"/>
            <p:cNvSpPr/>
            <p:nvPr/>
          </p:nvSpPr>
          <p:spPr>
            <a:xfrm>
              <a:off x="2009520" y="382896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3" name="文本框 24605"/>
            <p:cNvSpPr/>
            <p:nvPr/>
          </p:nvSpPr>
          <p:spPr>
            <a:xfrm>
              <a:off x="1706400" y="3966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4" name="文本框 24606"/>
            <p:cNvSpPr/>
            <p:nvPr/>
          </p:nvSpPr>
          <p:spPr>
            <a:xfrm>
              <a:off x="1720440" y="3611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5" name="直接连接符 24607"/>
            <p:cNvSpPr/>
            <p:nvPr/>
          </p:nvSpPr>
          <p:spPr>
            <a:xfrm>
              <a:off x="1726920" y="4030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6" name="组合 24608"/>
          <p:cNvGrpSpPr/>
          <p:nvPr/>
        </p:nvGrpSpPr>
        <p:grpSpPr>
          <a:xfrm>
            <a:off x="6202440" y="2133720"/>
            <a:ext cx="1014480" cy="815040"/>
            <a:chOff x="6202440" y="2133720"/>
            <a:chExt cx="1014480" cy="815040"/>
          </a:xfrm>
        </p:grpSpPr>
        <p:sp>
          <p:nvSpPr>
            <p:cNvPr id="2197" name="文本框 24609"/>
            <p:cNvSpPr/>
            <p:nvPr/>
          </p:nvSpPr>
          <p:spPr>
            <a:xfrm>
              <a:off x="6202440" y="23605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98" name="组合 24610"/>
            <p:cNvGrpSpPr/>
            <p:nvPr/>
          </p:nvGrpSpPr>
          <p:grpSpPr>
            <a:xfrm>
              <a:off x="6707520" y="2133720"/>
              <a:ext cx="509400" cy="815040"/>
              <a:chOff x="6707520" y="2133720"/>
              <a:chExt cx="509400" cy="815040"/>
            </a:xfrm>
          </p:grpSpPr>
          <p:sp>
            <p:nvSpPr>
              <p:cNvPr id="2199" name="文本框 24611"/>
              <p:cNvSpPr/>
              <p:nvPr/>
            </p:nvSpPr>
            <p:spPr>
              <a:xfrm>
                <a:off x="6712200" y="248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0" name="文本框 24612"/>
              <p:cNvSpPr/>
              <p:nvPr/>
            </p:nvSpPr>
            <p:spPr>
              <a:xfrm>
                <a:off x="6707520" y="213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01" name="直接连接符 24613"/>
              <p:cNvSpPr/>
              <p:nvPr/>
            </p:nvSpPr>
            <p:spPr>
              <a:xfrm>
                <a:off x="6723360" y="255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02" name="组合 24614"/>
          <p:cNvGrpSpPr/>
          <p:nvPr/>
        </p:nvGrpSpPr>
        <p:grpSpPr>
          <a:xfrm>
            <a:off x="2411280" y="2124000"/>
            <a:ext cx="906480" cy="815400"/>
            <a:chOff x="2411280" y="2124000"/>
            <a:chExt cx="906480" cy="815400"/>
          </a:xfrm>
        </p:grpSpPr>
        <p:sp>
          <p:nvSpPr>
            <p:cNvPr id="2203" name="文本框 24615"/>
            <p:cNvSpPr/>
            <p:nvPr/>
          </p:nvSpPr>
          <p:spPr>
            <a:xfrm>
              <a:off x="2813040" y="2479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4" name="文本框 24616"/>
            <p:cNvSpPr/>
            <p:nvPr/>
          </p:nvSpPr>
          <p:spPr>
            <a:xfrm>
              <a:off x="2884320" y="2124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5" name="直接连接符 24617"/>
            <p:cNvSpPr/>
            <p:nvPr/>
          </p:nvSpPr>
          <p:spPr>
            <a:xfrm>
              <a:off x="2862360" y="254304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6" name="文本框 24618"/>
            <p:cNvSpPr/>
            <p:nvPr/>
          </p:nvSpPr>
          <p:spPr>
            <a:xfrm>
              <a:off x="2411280" y="2340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07" name="组合 24619"/>
          <p:cNvGrpSpPr/>
          <p:nvPr/>
        </p:nvGrpSpPr>
        <p:grpSpPr>
          <a:xfrm>
            <a:off x="4716360" y="2120760"/>
            <a:ext cx="1055520" cy="805680"/>
            <a:chOff x="4716360" y="2120760"/>
            <a:chExt cx="1055520" cy="805680"/>
          </a:xfrm>
        </p:grpSpPr>
        <p:grpSp>
          <p:nvGrpSpPr>
            <p:cNvPr id="2208" name="组合 24620"/>
            <p:cNvGrpSpPr/>
            <p:nvPr/>
          </p:nvGrpSpPr>
          <p:grpSpPr>
            <a:xfrm>
              <a:off x="4716360" y="2120760"/>
              <a:ext cx="1055520" cy="805680"/>
              <a:chOff x="4716360" y="2120760"/>
              <a:chExt cx="1055520" cy="805680"/>
            </a:xfrm>
          </p:grpSpPr>
          <p:sp>
            <p:nvSpPr>
              <p:cNvPr id="2209" name="文本框 24621"/>
              <p:cNvSpPr/>
              <p:nvPr/>
            </p:nvSpPr>
            <p:spPr>
              <a:xfrm>
                <a:off x="4716360" y="23270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10" name="文本框 24622"/>
              <p:cNvSpPr/>
              <p:nvPr/>
            </p:nvSpPr>
            <p:spPr>
              <a:xfrm>
                <a:off x="5155920" y="246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11" name="文本框 24623"/>
              <p:cNvSpPr/>
              <p:nvPr/>
            </p:nvSpPr>
            <p:spPr>
              <a:xfrm>
                <a:off x="5092560" y="2120760"/>
                <a:ext cx="67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212" name="直接连接符 24624"/>
            <p:cNvSpPr/>
            <p:nvPr/>
          </p:nvSpPr>
          <p:spPr>
            <a:xfrm>
              <a:off x="5149800" y="2530080"/>
              <a:ext cx="3589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13" name="组合 24625"/>
          <p:cNvGrpSpPr/>
          <p:nvPr/>
        </p:nvGrpSpPr>
        <p:grpSpPr>
          <a:xfrm>
            <a:off x="6958080" y="2152800"/>
            <a:ext cx="1093320" cy="805680"/>
            <a:chOff x="6958080" y="2152800"/>
            <a:chExt cx="1093320" cy="805680"/>
          </a:xfrm>
        </p:grpSpPr>
        <p:sp>
          <p:nvSpPr>
            <p:cNvPr id="2214" name="文本框 24626"/>
            <p:cNvSpPr/>
            <p:nvPr/>
          </p:nvSpPr>
          <p:spPr>
            <a:xfrm>
              <a:off x="6958080" y="2358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5" name="文本框 24627"/>
            <p:cNvSpPr/>
            <p:nvPr/>
          </p:nvSpPr>
          <p:spPr>
            <a:xfrm>
              <a:off x="7378560" y="24987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6" name="文本框 24628"/>
            <p:cNvSpPr/>
            <p:nvPr/>
          </p:nvSpPr>
          <p:spPr>
            <a:xfrm>
              <a:off x="7372080" y="215280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7" name="直接连接符 24629"/>
            <p:cNvSpPr/>
            <p:nvPr/>
          </p:nvSpPr>
          <p:spPr>
            <a:xfrm>
              <a:off x="7391160" y="2574720"/>
              <a:ext cx="2869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18" name="组合 24630"/>
          <p:cNvGrpSpPr/>
          <p:nvPr/>
        </p:nvGrpSpPr>
        <p:grpSpPr>
          <a:xfrm>
            <a:off x="4749840" y="3602160"/>
            <a:ext cx="1093680" cy="805680"/>
            <a:chOff x="4749840" y="3602160"/>
            <a:chExt cx="1093680" cy="805680"/>
          </a:xfrm>
        </p:grpSpPr>
        <p:sp>
          <p:nvSpPr>
            <p:cNvPr id="2219" name="文本框 24631"/>
            <p:cNvSpPr/>
            <p:nvPr/>
          </p:nvSpPr>
          <p:spPr>
            <a:xfrm>
              <a:off x="4749840" y="3808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0" name="文本框 24632"/>
            <p:cNvSpPr/>
            <p:nvPr/>
          </p:nvSpPr>
          <p:spPr>
            <a:xfrm>
              <a:off x="5170320" y="39481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1" name="文本框 24633"/>
            <p:cNvSpPr/>
            <p:nvPr/>
          </p:nvSpPr>
          <p:spPr>
            <a:xfrm>
              <a:off x="5164200" y="36021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2" name="直接连接符 24634"/>
            <p:cNvSpPr/>
            <p:nvPr/>
          </p:nvSpPr>
          <p:spPr>
            <a:xfrm>
              <a:off x="5183280" y="40244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23" name="组合 24635"/>
          <p:cNvGrpSpPr/>
          <p:nvPr/>
        </p:nvGrpSpPr>
        <p:grpSpPr>
          <a:xfrm>
            <a:off x="6981840" y="3592440"/>
            <a:ext cx="1093680" cy="806040"/>
            <a:chOff x="6981840" y="3592440"/>
            <a:chExt cx="1093680" cy="806040"/>
          </a:xfrm>
        </p:grpSpPr>
        <p:sp>
          <p:nvSpPr>
            <p:cNvPr id="2224" name="文本框 24636"/>
            <p:cNvSpPr/>
            <p:nvPr/>
          </p:nvSpPr>
          <p:spPr>
            <a:xfrm>
              <a:off x="6981840" y="3798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5" name="文本框 24637"/>
            <p:cNvSpPr/>
            <p:nvPr/>
          </p:nvSpPr>
          <p:spPr>
            <a:xfrm>
              <a:off x="7402680" y="3938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6" name="文本框 24638"/>
            <p:cNvSpPr/>
            <p:nvPr/>
          </p:nvSpPr>
          <p:spPr>
            <a:xfrm>
              <a:off x="7396200" y="35924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7" name="直接连接符 24639"/>
            <p:cNvSpPr/>
            <p:nvPr/>
          </p:nvSpPr>
          <p:spPr>
            <a:xfrm>
              <a:off x="7415280" y="40147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全课总结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9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宋体"/>
              </a:rPr>
              <a:t>今天都有哪些收获？还有什么问题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0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232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Good Bye!</a:t>
            </a:r>
            <a:endParaRPr b="1" i="1" lang="en-US" sz="32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233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234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235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1" lang="en-US" sz="6600" spc="-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36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237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4:00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